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A3C-6B19-470A-8EB2-539A7EF9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66E-376B-4562-ADA1-6DA7CB80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7CA-E945-4F80-9872-D596791F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97C-AEC6-4CA2-B469-A1B9883F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0ECB-1938-42CB-AEE7-7FFEE68C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4A3B-A911-4673-A821-E5801705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D877-BD06-4AA8-94B8-E72B499E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DDC6-F3FE-45E5-A2BE-FF6ECB2A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7A85-B6BC-489D-9306-A22D82BE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E383-82B3-4276-B083-634C87C2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6BE0-7D75-4B43-A79E-589EAA8C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A83-9380-49F7-8AE5-9A39A241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7FC5-28AE-400B-B7EE-D2F7E1A6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7B82-1B17-4E20-AA65-8189C74E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8608-95AD-4D83-8479-3C3A363D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11EE-BB6C-4FCF-80C1-B45E0DEF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E8B8-4F1D-42EE-80D7-74260170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E74-EBD4-4E5D-8FCE-1FE152FF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ABA-BB2B-4AB1-A757-A81FDED9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782-E5E3-49AD-B8C6-804074BD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30B-19D8-47A0-BC84-E36ADB26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17C-9131-4DAD-AAAF-65C610B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7D6-2CFC-44FE-AD7B-847E7E98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F22-A3B1-4F6F-832A-EEA63CD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D8C3-A7C4-4311-8A09-7485503B5C0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444-3F64-43B4-8A55-225D779ABA7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ЗАКОНЫ РОСС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 КЛАС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ВЫВОДЫ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оссия – многонациональное государство. В состав России входит много республик, краёв, областей. От других государств отделена сухопутными и морскими границам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У России есть свои символы – флаг, герб, гим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толица – г. Москв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Управляет Правительство и Президент стра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Картинка 2 из 4629"/>
          <p:cNvPicPr/>
          <p:nvPr/>
        </p:nvPicPr>
        <p:blipFill>
          <a:blip r:embed="rId1"/>
          <a:stretch/>
        </p:blipFill>
        <p:spPr>
          <a:xfrm>
            <a:off x="5562720" y="1905120"/>
            <a:ext cx="3287520" cy="4724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ИКТОРИНА-ТЕС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ак называется наша страна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а) Российская страна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Б) Российская федерация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) Союз советских социалистических республи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. Какой флаг является символом нашей страны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133720"/>
            <a:ext cx="78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а)                    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                        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В)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)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9" name="" descr="Картинка 32 из 15328"/>
          <p:cNvPicPr/>
          <p:nvPr/>
        </p:nvPicPr>
        <p:blipFill>
          <a:blip r:embed="rId1"/>
          <a:stretch/>
        </p:blipFill>
        <p:spPr>
          <a:xfrm>
            <a:off x="1447920" y="1905120"/>
            <a:ext cx="2971800" cy="15620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47920" y="4114800"/>
            <a:ext cx="2971800" cy="14968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Картинка 15 из 104041"/>
          <p:cNvPicPr/>
          <p:nvPr/>
        </p:nvPicPr>
        <p:blipFill>
          <a:blip r:embed="rId3"/>
          <a:stretch/>
        </p:blipFill>
        <p:spPr>
          <a:xfrm>
            <a:off x="5791320" y="2743200"/>
            <a:ext cx="3044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3. ВЫБЕРИТЕ СОВРЕМЕННЫЙ ГЕРБ РФ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А)                               Б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)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" descr="Картинка 18 из 11832"/>
          <p:cNvPicPr/>
          <p:nvPr/>
        </p:nvPicPr>
        <p:blipFill>
          <a:blip r:embed="rId1"/>
          <a:stretch/>
        </p:blipFill>
        <p:spPr>
          <a:xfrm>
            <a:off x="1447920" y="1905120"/>
            <a:ext cx="2168280" cy="2361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85" name="" descr="Картинка 19 из 11832"/>
          <p:cNvPicPr/>
          <p:nvPr/>
        </p:nvPicPr>
        <p:blipFill>
          <a:blip r:embed="rId2"/>
          <a:stretch/>
        </p:blipFill>
        <p:spPr>
          <a:xfrm>
            <a:off x="6095880" y="1828800"/>
            <a:ext cx="1889280" cy="2514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86" name="" descr="Картинка 11 из 83400"/>
          <p:cNvPicPr/>
          <p:nvPr/>
        </p:nvPicPr>
        <p:blipFill>
          <a:blip r:embed="rId3"/>
          <a:stretch/>
        </p:blipFill>
        <p:spPr>
          <a:xfrm>
            <a:off x="3657600" y="4419720"/>
            <a:ext cx="2286000" cy="2286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4. КТО ЯВЛЯЕТСЯ ПРЕЗИДЕНТОМ РФ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А)   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Б)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)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2438280" cy="18288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90" name="" descr="Картинка 5 из 54903"/>
          <p:cNvPicPr/>
          <p:nvPr/>
        </p:nvPicPr>
        <p:blipFill>
          <a:blip r:embed="rId2"/>
          <a:stretch/>
        </p:blipFill>
        <p:spPr>
          <a:xfrm>
            <a:off x="5715000" y="1981080"/>
            <a:ext cx="2341440" cy="35053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1828800" y="4495680"/>
            <a:ext cx="2895480" cy="2171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. Какие праздники являются государственными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А) День космонавтики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Б) День России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В) День Победы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Г) День знаний;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Д) День согласия и примирения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Что такое ЗАКОН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) Постановление государственной власти, нормативный акт, принятый государственной властью; установленные государственной властью общеобязательные правила. 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Конституция основной з. государства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) Общеобязательное и непреложное правило. 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Законы нравственности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КОНСТИТУЦ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Картинка 90 из 106182"/>
          <p:cNvPicPr/>
          <p:nvPr/>
        </p:nvPicPr>
        <p:blipFill>
          <a:blip r:embed="rId1"/>
          <a:stretch/>
        </p:blipFill>
        <p:spPr>
          <a:xfrm>
            <a:off x="762120" y="1828800"/>
            <a:ext cx="3085920" cy="42670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343400" y="1981080"/>
            <a:ext cx="441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Главный закон нашей страны, в котором прописаны основные права и обязанности граждан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ОСНОВНЫЕ ПРАВ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Статья 20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Каждый имеет право на жизнь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Статья 38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1. Материнство и детство, семья находятся под защитой государства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2. Забота о детях, их воспитание - равное право и обязанность родителей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3. Трудоспособные дети, достигшие 18 лет, должны заботиться о нетрудоспособных родителях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Статья 40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Каждый имеет право на жилище. Никто не может быть произвольно лишен жилища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Статья 41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Каждый имеет право на охрану здоровья и медицинскую помощь. Медицинская помощь в государственных и муниципальных учреждениях здравоохранения оказывается гражданам бесплатно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Статья 43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Каждый имеет право на образование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301320"/>
            <a:ext cx="883944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ОСНОВНЫЕ ОБЯЗАННОСТ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Статья 57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ждый обязан платить законно установленные налоги и сборы. 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Статья 58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ждый обязан сохранять природу и окружающую среду, бережно относиться к природным богатства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Статья 59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1. Защита Отечества является долгом и обязанностью гражданина Российской Федерац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 Гражданин Российской Федерации несет военную службу в соответствии с федеральным законо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ОНВЕНЦИЯ О ПРАВАХ РЕБЁН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" descr="Картинка 21 из 3769"/>
          <p:cNvPicPr/>
          <p:nvPr/>
        </p:nvPicPr>
        <p:blipFill>
          <a:blip r:embed="rId1"/>
          <a:stretch/>
        </p:blipFill>
        <p:spPr>
          <a:xfrm>
            <a:off x="609480" y="1981080"/>
            <a:ext cx="2968920" cy="44960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63" name=""/>
          <p:cNvSpPr/>
          <p:nvPr/>
        </p:nvSpPr>
        <p:spPr>
          <a:xfrm>
            <a:off x="4114800" y="2057400"/>
            <a:ext cx="46483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Прописаны основные права детей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День ребёнка – 20 ноября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1989 года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СУДАРСТВЕННЫЕ ПРАЗДНИ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День защитника Отечества  - 23 феврал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Международный женский день – 8 марта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раздник весны и труда – 1 ма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День Победы – 9 ма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День России – 12 июн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День согласия и примирения – 4 ноябр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f237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ЕГОСУДАРСТЕННЫЕ ПРАЗДНИ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Картинка 36 из 44278"/>
          <p:cNvPicPr/>
          <p:nvPr/>
        </p:nvPicPr>
        <p:blipFill>
          <a:blip r:embed="rId1"/>
          <a:stretch/>
        </p:blipFill>
        <p:spPr>
          <a:xfrm>
            <a:off x="685800" y="1981080"/>
            <a:ext cx="3303720" cy="41148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4419720" y="2057400"/>
            <a:ext cx="43434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ень знаний – 1 сентября;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ень космонавтики – 12 апреля;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ень защиты детей – 1 июня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ФЕССИОНАЛЬНЫЕ ПРАЗДНИ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0" name="" descr="Картинка 4 из 71932"/>
          <p:cNvPicPr/>
          <p:nvPr/>
        </p:nvPicPr>
        <p:blipFill>
          <a:blip r:embed="rId1"/>
          <a:stretch/>
        </p:blipFill>
        <p:spPr>
          <a:xfrm>
            <a:off x="838080" y="1981080"/>
            <a:ext cx="3095640" cy="41148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4191120" y="2666880"/>
            <a:ext cx="4343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f23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5 октября – День Учител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Александровна</cp:lastModifiedBy>
  <dcterms:modified xsi:type="dcterms:W3CDTF">2012-04-13T17:42:1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