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B65-26B6-4A01-AE2E-13B13CF9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418-799C-4C75-8583-09686459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8F2-6C0F-4CA4-995A-9C82F303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4FF-FE2B-4D8B-87C1-66320BB3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FB7C-3F8A-4626-BE1F-A164BD52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DF0D-60FE-4AD8-8D21-D23C0EF3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15FC-60E1-45A0-910B-74C522FD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F919-C698-4F22-980F-E1BAE94D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B482-53EC-4972-8B18-284B8478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836C-D0C0-4909-A914-81C51B7F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C63A-4FF4-47F4-9461-D861361F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C73-C641-4E80-B7EC-FA36738B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D20A-6DFF-4B47-B241-B0885AB3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9A50-09D2-48C7-8D05-4A719088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FE57-4987-4222-914D-E544855E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A918-DEBC-4463-9053-B0C64729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D3B3-B0EB-438B-AF3F-BD9F6D51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CE5-442F-456D-9F53-260A8449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9838-76D0-4CFB-B7C1-279FC65E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175-5457-4FC2-ACEE-8C4DEEB0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CF0-CAFB-42B9-9747-38661D59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B0D-C78E-42ED-92BF-7BEF9D86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516-CEE0-451C-AE28-CFBCAD6F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02F-3C0F-4EB3-838D-EBFB838E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61D4-4725-4049-9CBA-4D7200071FB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A987-6A1D-4210-93C7-D2D269CA75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Город-герой Волгоград (Сталинград)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полнил: Старков Юр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ник 2А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узей-панорама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“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талинградская битв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”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положен 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нтраль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береж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рода. Открыт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82 г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56000" y="2133720"/>
            <a:ext cx="45370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уины старой мельниц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единственн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авшее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 времен вой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восстановленны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дание в город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40910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ллея Героев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сентября 1985 г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ыл открыт мемориа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амятник, посвящен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роям Советского Союз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полным кавалера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дена Славы, уроженц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лгоградской обла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героям Сталинградск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ит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8573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Город-герой Волгоград (Сталинград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Расположен на прав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егу реки Волги в е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жнем тече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С 1925 по 1961 год носи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вание город Сталингра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8 мая 1965 года Волгоград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ло присвоено з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рода- геро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за победу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линградской би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979960" y="2133720"/>
            <a:ext cx="21924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алинградская бит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Шла 200 дней и ноч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Делилась на два период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 оборонительный - с 17 июля 1942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18 ноября 1942г.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наступательный начался с 19 ноября 1942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завершился победными залпами 02 февраля 1943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Стала началом коренного перелома в ходе вой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алинград во время войн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521080" cy="2087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03640" y="1628640"/>
            <a:ext cx="2592360" cy="2087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12000" y="1628640"/>
            <a:ext cx="252072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39640" y="3933720"/>
            <a:ext cx="2519640" cy="2374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203640" y="3933720"/>
            <a:ext cx="2592360" cy="2376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012000" y="3933720"/>
            <a:ext cx="2520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едаль за оборону Сталинград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реждена Указ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идиума Верховного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вета СССР от 22 декабр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42 г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244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амятники Сталинградской битв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амаев Курга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Главная высот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осс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Во время Сталинградской битвы здесь проходили самые ожесточённые бо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амятник-ансамбль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ероям Сталинградской битвы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лощадь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ять 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мерть!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Зал воинской славы.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96000" y="3933720"/>
            <a:ext cx="2879640" cy="2374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6000" y="1557360"/>
            <a:ext cx="2881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амаев Курган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ульптур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бь матер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5113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амаев Курган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ульптур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ина-мать зовё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2735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09:11:10Z</dcterms:created>
  <dc:creator>1</dc:creator>
  <dc:description/>
  <dc:language>en-US</dc:language>
  <cp:lastModifiedBy>1</cp:lastModifiedBy>
  <dcterms:modified xsi:type="dcterms:W3CDTF">2012-05-11T14:21:09Z</dcterms:modified>
  <cp:revision>7</cp:revision>
  <dc:subject/>
  <dc:title>Город-герой Сталинград (ныне) Волгоград.</dc:title>
</cp:coreProperties>
</file>