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4FB-AE30-41B0-B7EB-973753DC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54F-7A0E-4709-B195-5E24B23C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393-FE4B-4565-AFFA-D600AF1A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8B7-F5E4-4692-AEDB-C87C9924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6931-EBA9-425E-8AC6-996FD17E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BCAF-CCA9-4635-89D9-532D52BA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DF7-C6AD-4C0B-B735-E76F15D9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E686-D147-4007-B7E3-3B6156C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50A0-89BC-47C2-A687-6C3430F7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E498-8B3D-49A5-BA44-7D0D4885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1373-C85E-479F-A2C8-2B64B60F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376-3BFA-4276-9748-A95355AA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86E8-CA6A-47E0-80B8-E40C308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C06-1FDF-432A-B605-ED84E9D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492B-D9A6-48ED-B113-F711F27A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0029-AD1A-4EE5-904C-C8FBD163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D54-C7CB-447D-AD55-8B9FB6B4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2B7-D83F-4BAE-B4D0-C3027EC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9F0-5155-4316-84D4-6A34F0D1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F19-8FDF-476F-8703-BA9A8C51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A38-4703-476E-9758-732C464A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367-07A5-49D3-9433-2A04FA5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40F-8B31-4587-BE30-1E565C9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A04-41DC-4DAC-9F21-3CF5410A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CA0-7B59-44F5-8F15-18DCAF4BE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BD6-C3DC-4ECE-B98F-E12059516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МИР ВЕЛИК И ПРЕКРАСЕН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ружающий мир, 2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Картинка 23 из 122"/>
          <p:cNvPicPr/>
          <p:nvPr/>
        </p:nvPicPr>
        <p:blipFill>
          <a:blip r:embed="rId1"/>
          <a:stretch/>
        </p:blipFill>
        <p:spPr>
          <a:xfrm>
            <a:off x="5910120" y="990720"/>
            <a:ext cx="3106800" cy="3809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ВЫВОДЫ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родные тела делятся на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ьшие группы: … и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вые сущ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ются, растут, …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ются, умир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живая природа – э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котворный мир – предм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данны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цию об окружающем мире можно представлять по-разному: устно, письменно, в вид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ПОВТОРЕНИЕ ИЗУЧЕННОГО В 1 КЛАССЕ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3 большие группы предметов окружающего мира ты знаеш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группы живых существ изучались в 1 класс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предметы неживой природы, которые тебя окружаю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Какие 3 большие группы предметов окружающего мира ты знаешь?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209680"/>
            <a:ext cx="3733920" cy="9907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886200"/>
            <a:ext cx="2514600" cy="7621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Живая приро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5181480"/>
            <a:ext cx="2590560" cy="7621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Неживая приро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886200"/>
            <a:ext cx="2666880" cy="7621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укотворный ми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3200400"/>
            <a:ext cx="761760" cy="1981080"/>
          </a:xfrm>
          <a:prstGeom prst="downArrowCallout">
            <a:avLst>
              <a:gd name="adj1" fmla="val 25002"/>
              <a:gd name="adj2" fmla="val 25000"/>
              <a:gd name="adj3" fmla="val 43344"/>
              <a:gd name="adj4" fmla="val 6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666880"/>
            <a:ext cx="1752480" cy="121932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2666880"/>
            <a:ext cx="1905120" cy="121932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241360" y="1401480"/>
            <a:ext cx="4813560" cy="4167720"/>
            <a:chOff x="2241360" y="1401480"/>
            <a:chExt cx="4813560" cy="4167720"/>
          </a:xfrm>
        </p:grpSpPr>
        <p:sp>
          <p:nvSpPr>
            <p:cNvPr id="111" name="_s35850"/>
            <p:cNvSpPr/>
            <p:nvPr/>
          </p:nvSpPr>
          <p:spPr>
            <a:xfrm flipV="1">
              <a:off x="4165920" y="1401120"/>
              <a:ext cx="963720" cy="834120"/>
            </a:xfrm>
            <a:custGeom>
              <a:avLst/>
              <a:gdLst>
                <a:gd name="textAreaLeft" fmla="*/ 345600 w 963720"/>
                <a:gd name="textAreaRight" fmla="*/ 618120 w 963720"/>
                <a:gd name="textAreaTop" fmla="*/ 299160 h 834120"/>
                <a:gd name="textAreaBottom" fmla="*/ 53496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5851"/>
            <p:cNvSpPr/>
            <p:nvPr/>
          </p:nvSpPr>
          <p:spPr>
            <a:xfrm flipV="1">
              <a:off x="3685680" y="2235960"/>
              <a:ext cx="1924560" cy="833760"/>
            </a:xfrm>
            <a:custGeom>
              <a:avLst/>
              <a:gdLst>
                <a:gd name="textAreaLeft" fmla="*/ 423000 w 1924560"/>
                <a:gd name="textAreaRight" fmla="*/ 1501560 w 1924560"/>
                <a:gd name="textAreaTop" fmla="*/ 183240 h 833760"/>
                <a:gd name="textAreaBottom" fmla="*/ 650520 h 8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ЫША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5852"/>
            <p:cNvSpPr/>
            <p:nvPr/>
          </p:nvSpPr>
          <p:spPr>
            <a:xfrm flipV="1">
              <a:off x="3203640" y="3069720"/>
              <a:ext cx="2888280" cy="833760"/>
            </a:xfrm>
            <a:custGeom>
              <a:avLst/>
              <a:gdLst>
                <a:gd name="textAreaLeft" fmla="*/ 501480 w 2888280"/>
                <a:gd name="textAreaRight" fmla="*/ 2386800 w 2888280"/>
                <a:gd name="textAreaTop" fmla="*/ 144720 h 833760"/>
                <a:gd name="textAreaBottom" fmla="*/ 689040 h 8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СТУ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5854"/>
            <p:cNvSpPr/>
            <p:nvPr/>
          </p:nvSpPr>
          <p:spPr>
            <a:xfrm flipV="1">
              <a:off x="2723400" y="3903840"/>
              <a:ext cx="3849120" cy="833760"/>
            </a:xfrm>
            <a:custGeom>
              <a:avLst/>
              <a:gdLst>
                <a:gd name="textAreaLeft" fmla="*/ 578880 w 3849120"/>
                <a:gd name="textAreaRight" fmla="*/ 3270240 w 3849120"/>
                <a:gd name="textAreaTop" fmla="*/ 125280 h 833760"/>
                <a:gd name="textAreaBottom" fmla="*/ 708480 h 8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ЗВИВАЮТ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5855"/>
            <p:cNvSpPr/>
            <p:nvPr/>
          </p:nvSpPr>
          <p:spPr>
            <a:xfrm flipV="1">
              <a:off x="2241360" y="4736880"/>
              <a:ext cx="4813560" cy="831960"/>
            </a:xfrm>
            <a:custGeom>
              <a:avLst/>
              <a:gdLst>
                <a:gd name="textAreaLeft" fmla="*/ 657360 w 4813560"/>
                <a:gd name="textAreaRight" fmla="*/ 4156200 w 4813560"/>
                <a:gd name="textAreaTop" fmla="*/ 113400 h 831960"/>
                <a:gd name="textAreaBottom" fmla="*/ 718560 h 8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ИТАЮТ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3716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ЛЕМЕНТЫ ЖИВОЙ ПРИР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Какие группы живых существ изучались в 1 классе?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8" name="" descr="Картинка 3 из 136000"/>
          <p:cNvPicPr/>
          <p:nvPr/>
        </p:nvPicPr>
        <p:blipFill>
          <a:blip r:embed="rId1"/>
          <a:stretch/>
        </p:blipFill>
        <p:spPr>
          <a:xfrm>
            <a:off x="1752480" y="1828800"/>
            <a:ext cx="6096240" cy="4057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1752480" y="60958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Какие группы живых существ изучались в 1 классе?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21" name="" descr="Картинка 53 из 136000"/>
          <p:cNvPicPr/>
          <p:nvPr/>
        </p:nvPicPr>
        <p:blipFill>
          <a:blip r:embed="rId1"/>
          <a:stretch/>
        </p:blipFill>
        <p:spPr>
          <a:xfrm>
            <a:off x="2057400" y="1828800"/>
            <a:ext cx="5343480" cy="4002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205740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Какие группы живых существ изучались в 1 классе?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24" name="" descr="Картинка 7 из 131170"/>
          <p:cNvPicPr/>
          <p:nvPr/>
        </p:nvPicPr>
        <p:blipFill>
          <a:blip r:embed="rId1"/>
          <a:stretch/>
        </p:blipFill>
        <p:spPr>
          <a:xfrm>
            <a:off x="2209680" y="1905120"/>
            <a:ext cx="5257800" cy="394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209680" y="6172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СХЕМ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905120"/>
            <a:ext cx="3657600" cy="9903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581280"/>
            <a:ext cx="2819520" cy="990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4876920"/>
            <a:ext cx="2819520" cy="9903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581280"/>
            <a:ext cx="2819520" cy="990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2895480"/>
            <a:ext cx="533520" cy="1981440"/>
          </a:xfrm>
          <a:prstGeom prst="downArrow">
            <a:avLst>
              <a:gd name="adj1" fmla="val 50000"/>
              <a:gd name="adj2" fmla="val 92848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8954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28954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СХЕМ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1905120"/>
            <a:ext cx="3886200" cy="7617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Картинка 0 из 135000"/>
          <p:cNvPicPr/>
          <p:nvPr/>
        </p:nvPicPr>
        <p:blipFill>
          <a:blip r:embed="rId1"/>
          <a:stretch/>
        </p:blipFill>
        <p:spPr>
          <a:xfrm>
            <a:off x="533520" y="2819520"/>
            <a:ext cx="2357280" cy="2361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73 из 77337"/>
          <p:cNvPicPr/>
          <p:nvPr/>
        </p:nvPicPr>
        <p:blipFill>
          <a:blip r:embed="rId2"/>
          <a:stretch/>
        </p:blipFill>
        <p:spPr>
          <a:xfrm>
            <a:off x="2743200" y="3352680"/>
            <a:ext cx="2057400" cy="14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38" name="" descr="Картинка 103 из 120619"/>
          <p:cNvPicPr/>
          <p:nvPr/>
        </p:nvPicPr>
        <p:blipFill>
          <a:blip r:embed="rId3"/>
          <a:stretch/>
        </p:blipFill>
        <p:spPr>
          <a:xfrm>
            <a:off x="4952880" y="3352680"/>
            <a:ext cx="19051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" descr="Картинка 112 из 33647"/>
          <p:cNvPicPr/>
          <p:nvPr/>
        </p:nvPicPr>
        <p:blipFill>
          <a:blip r:embed="rId4"/>
          <a:stretch/>
        </p:blipFill>
        <p:spPr>
          <a:xfrm>
            <a:off x="7010280" y="3352680"/>
            <a:ext cx="1928880" cy="144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 flipH="1">
            <a:off x="1904760" y="2666880"/>
            <a:ext cx="281916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09880" y="2666880"/>
            <a:ext cx="91440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114300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666880"/>
            <a:ext cx="335304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715000"/>
            <a:ext cx="7924680" cy="5335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чём можно рассказать, опираясь на сх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Александровна</cp:lastModifiedBy>
  <dcterms:modified xsi:type="dcterms:W3CDTF">2011-09-05T16:13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