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2740-A74D-411E-AC03-214AC7CBB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AEA-42F5-48E2-AFBB-A2AF9073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95E-CC52-462B-B48A-94948445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286-5E22-44C3-B5B2-0600B462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4AC3-1183-4B9A-AADA-14FCC1A2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25F3-D7CB-483E-A20C-ABF24689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152D9-D8DB-4D78-82CE-E0108778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9CD38-BED3-4891-9D1E-7CAF2990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2B3B-9CD1-4535-911F-B983F462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5016-87DF-48AE-84A4-37A44596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E214-BA8F-4B51-A0A0-E1D1D92C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0E9-5554-45C4-87AA-EDEA7031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0EA6-13F0-47D9-82DF-A62BACA0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D526-BD68-4623-984E-C0009749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C060-57B8-4D5B-91F6-B7C042F2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8A82-DAA5-4077-845F-44F6B4CA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590C-C10B-4486-BE18-66D540B8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820B-6E8D-478A-92EC-9BA9C7CD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7B6-FAB2-43FF-B15D-3E96100C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9C4E-477D-465E-BC50-E34DF37B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973-663E-4C47-A181-B2A1AD8A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EC34-71A5-4910-A4C0-FBD82132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8799-C032-4E1A-8FC8-1CC9781F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2527-5784-410C-8375-99A77FCA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ACEB-54EF-4FE1-B204-5EC7ECF077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1247-4684-44C3-AC9E-D61E10BEF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enc_medicine/0234222291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pustroupe.files.wordpress.com/2008/10/amanita_muscaria_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nedug.ru/common/data/pub/images/articles/77809/normal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edarticle.moslek.ru/images/48457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natur-server.com/Bilder/FM/001/fm00004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stat11.privet.ru/lr/081b05e823ad3f3edd814db74fea0969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4/327/44327313_LD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files/articles/56/5671/567130/img14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smastif.ru/images/stories/main/164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project.ru/jsd_catalog/img_prew.php?pic_name=1000021.jpg&amp;pic_type=title_pic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s42.radikal.ru/i096/0904/75/6ff9d5b0d383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www.ab.ru/~slava/my_photo/picture/07602_600.jpg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ronmen.ucoz.ru/foto/siroeshka_z.jpg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ics.livejournal.com/vv_novikov/pic/000x92ph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vmnews.ru/wp-content/uploads/2009/09/grib3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2/iseka.0/0_12af_8811b59b_-1-L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3049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830592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АН РАССКАЗА О КОМНАТНОМ РАСТ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Название растения и его род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Требовательность к теплу, свету, вла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Что декоративно у растения (листья, цветки, стебл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Каковы особенности ухода за этим раст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Как можно его размно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ЯДОВИТЫЕ ГР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Картинка 5 из 5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295280"/>
            <a:ext cx="5600880" cy="49132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1676520" y="18288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БЛЕДНАЯ ПОГА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ЯДОВИТЫЕ ГР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Картинка 14 из 5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371600"/>
            <a:ext cx="6477120" cy="48798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295280" y="55627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МУХОМ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ЯДОВИТЫЕ ГР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Картинка 1 из 5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1380960"/>
            <a:ext cx="4876920" cy="48531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1828800" y="15238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АТАНИНСКИЙ ГРИ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ЯДОВИТЫЕ ГР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Картинка 4 из 5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666880"/>
            <a:ext cx="4038480" cy="353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Картинка 6 из 9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295280"/>
            <a:ext cx="4267440" cy="3333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80880" y="472428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0574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ОЖНЫЕ ОП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ВАЖНЫЕ СОВЕТ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одовое тело гриба срезают или выкручивают, не нарушая грибн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ирайте только известные тебе грибы! Помни отличительные признаки ядовитых гри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ибами можно отравиться. Не пробуй грибы на вкус. Не доверяйся запаху гриб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собирай грибы на газонах и в скверах города, вдоль автостра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рибы готовят в день сб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УДИВИТЕЛЬНЫЕ ГР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Картинка 1 из 4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371600"/>
            <a:ext cx="5410080" cy="4873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2209680" y="17524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УДИВИТЕЛЬНЫЕ ГР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Картинка 113 из 442"/>
          <p:cNvPicPr/>
          <p:nvPr/>
        </p:nvPicPr>
        <p:blipFill>
          <a:blip r:embed="rId1"/>
          <a:stretch/>
        </p:blipFill>
        <p:spPr>
          <a:xfrm>
            <a:off x="1219320" y="1370160"/>
            <a:ext cx="6476760" cy="48607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371600" y="57150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РОЖАЛКА ОРАНЖ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УДИВИТЕЛЬНЫЕ ГРИБ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Картинка 35 из 237"/>
          <p:cNvPicPr/>
          <p:nvPr/>
        </p:nvPicPr>
        <p:blipFill>
          <a:blip r:embed="rId1"/>
          <a:stretch/>
        </p:blipFill>
        <p:spPr>
          <a:xfrm>
            <a:off x="1371600" y="1371600"/>
            <a:ext cx="6500880" cy="4878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23880" y="5638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РУТ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МИКРОСКОПИЧЕСКИЕ ГРИБ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Картинка 1 из 455"/>
          <p:cNvPicPr/>
          <p:nvPr/>
        </p:nvPicPr>
        <p:blipFill>
          <a:blip r:embed="rId1"/>
          <a:stretch/>
        </p:blipFill>
        <p:spPr>
          <a:xfrm>
            <a:off x="304920" y="1371600"/>
            <a:ext cx="3886200" cy="2916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905120" y="63388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ЛЕСНЕВЫЕ 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Картинка 17 из 951"/>
          <p:cNvPicPr/>
          <p:nvPr/>
        </p:nvPicPr>
        <p:blipFill>
          <a:blip r:embed="rId2"/>
          <a:stretch/>
        </p:blipFill>
        <p:spPr>
          <a:xfrm>
            <a:off x="3581280" y="3352680"/>
            <a:ext cx="5077080" cy="29052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Картинка 22 из 36123"/>
          <p:cNvPicPr/>
          <p:nvPr/>
        </p:nvPicPr>
        <p:blipFill>
          <a:blip r:embed="rId1"/>
          <a:stretch/>
        </p:blipFill>
        <p:spPr>
          <a:xfrm>
            <a:off x="1828800" y="1447920"/>
            <a:ext cx="5181480" cy="4808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3049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ЛУБНИКА С ПЛЕСЕ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ГРИБНАЯ ПОЛЯНК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Картинка 15 из 247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600200"/>
            <a:ext cx="6143760" cy="45990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ПОДГОТОВЬСЯ ОТВЕТИТЬ НА ВОПРОСЫ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мы обычно называем гриб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устроено плодовое тело гриб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грибы называют трубчатыми, какие – пластинчат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м отличается строение ножек несъедобных гриб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грибы называют ложны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до ли уничтожать ядовитые гриб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МНОГООБРАЗИЕ ГРИБ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534360" cy="49006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2819520" y="4038480"/>
            <a:ext cx="3657600" cy="131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Благородный белый гриб Меж грибами знаменит. Под коричневою шляпой Ножку толстую упрят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МНОГООБРАЗИЕ ГРИБ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Картинка 23 из 247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371600"/>
            <a:ext cx="5715000" cy="49053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2666880" y="380988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расной шапочкой гр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поднял с земли лис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 дрожащими ос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итаился подосинов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МНОГООБРАЗИЕ ГРИБ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Картинка 15 из 18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371600"/>
            <a:ext cx="7296120" cy="483696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02" name=""/>
          <p:cNvSpPr/>
          <p:nvPr/>
        </p:nvSpPr>
        <p:spPr>
          <a:xfrm>
            <a:off x="2514600" y="4419720"/>
            <a:ext cx="4495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д сосной в хвоинках рыж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е ищи весною рыж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жий рыжик рыж не зр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жик – вестник сентябр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МНОГООБРАЗИЕ ГРИБОВ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Картинка 6 из 29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73340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Картинка 7 из 29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91120" y="1733400"/>
            <a:ext cx="2971800" cy="2230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2 из 2989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9320" y="3962520"/>
            <a:ext cx="2971800" cy="2230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3 из 298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191120" y="394344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43200" y="2971800"/>
            <a:ext cx="350532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пушке зеленуш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желтушки, красн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се в корзинки их беру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ыроежками зов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СТРОЕНИЕ ГРИБ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71600" y="1420920"/>
            <a:ext cx="6162840" cy="4821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76520" y="3733920"/>
            <a:ext cx="1447560" cy="368280"/>
          </a:xfrm>
          <a:prstGeom prst="rect">
            <a:avLst/>
          </a:prstGeom>
          <a:noFill/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048120" y="4266720"/>
            <a:ext cx="1143000" cy="38124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648320"/>
            <a:ext cx="1447920" cy="368280"/>
          </a:xfrm>
          <a:prstGeom prst="rect">
            <a:avLst/>
          </a:prstGeom>
          <a:noFill/>
          <a:ln w="1908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аше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3962520"/>
            <a:ext cx="1295640" cy="0"/>
          </a:xfrm>
          <a:prstGeom prst="line">
            <a:avLst/>
          </a:prstGeom>
          <a:ln w="28440">
            <a:solidFill>
              <a:srgbClr val="66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Чем отличаются грибы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Картинка 1 из 29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4214880" cy="281448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pic>
        <p:nvPicPr>
          <p:cNvPr id="117" name="" descr="Картинка 21 из 247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81480" y="1371600"/>
            <a:ext cx="2914920" cy="388620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457200" y="449568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ластинчатые гриб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5410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рубчатые гри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1600200"/>
            <a:ext cx="43434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ибы – живые существа. Они растут, развиваются, питаются, размнож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ая часть гриба – грибница. Её тонкие нити всасывают воду и питате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иб имеет плодовое тело, состоящее из ножки и шляп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Картинка 26 из 247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371600"/>
            <a:ext cx="3657600" cy="4876920"/>
          </a:xfrm>
          <a:prstGeom prst="rect">
            <a:avLst/>
          </a:prstGeom>
          <a:ln w="2844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номарева</cp:lastModifiedBy>
  <dcterms:modified xsi:type="dcterms:W3CDTF">2011-02-17T12:29:2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