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2704-5746-466A-8F4D-DD5A51AF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9D78-CC21-4C73-99A9-C08D43F2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B55-A8AA-4B17-B657-81C2EBA5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D44-82B8-44DF-9798-B843C85E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3E17-E8ED-47DE-A7A3-3BEB1F4B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3889-2DEE-43C7-B362-5CE690D0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180C-04DE-439C-A968-FB4D771E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5FC1-9C11-43ED-919D-6DEA87F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22C3-C21A-4A12-8146-D0F0F4FA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2017-38DC-4109-85DF-2F115D86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ABA3-393F-4790-85BB-01D11BD3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1E8-7361-4569-9CA1-E96AB9DA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8716-0317-4A66-8888-1D6E24A0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9F9F-78EB-4886-98B7-9A6570A8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CAC0-E0E3-4BFD-8423-0BA8196B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7353-4831-4462-B84F-4F49B175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A4FC-6DCB-43A5-BED3-6F2A3241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09E-17ED-46B4-8E00-165038CF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7DD-902E-4200-A0C3-019E2FA0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C576-14F7-4BF9-A72D-8F68F650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42F-9259-46D0-8817-247986C4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34C7-7393-48F6-BC37-7317353E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5751-BCEF-4FD2-B4CB-8012A133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883F-54FE-4790-8F51-BAA6E5B5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d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3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49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6a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7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6efe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4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73fe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4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d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6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1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6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a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49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49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73fe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6D03-1166-40B8-8C2F-1823B98CDB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d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3d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49b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6afe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7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46b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6efe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4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73fe"/>
                </a:gs>
                <a:gs pos="100000">
                  <a:srgbClr val="006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40a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d9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6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17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6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3a9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49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50c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49b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73fe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073E-3341-47BB-BB20-0620CD2666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lowers-south.ru/upload/iblock/0b2/picea%20abies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designland.in.ua/pics/news/balzam/hvoinie-derevya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static.baza.farpost.ru/bulletins_images/4/6/4/4642386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avito.ru/images/big/2616846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www.livekuban.ru/files/imagecache/normal/paper/hvojnye-ratenija.jpg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www.fotoistin.ru/Istin/Derevo/original/38.jpg" TargetMode="External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zelenenie.net.ua/wp-content/themes/green/uploads/Hvoynue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amsay.ru/uploads/posts/2009-08/1249379210_sosna_enl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hyperlink" Target="http://flower.onego.ru/conifer/ena_3870.jpg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s44.radikal.ru/i104/0910/bc/674c8e5c0611.jpg" TargetMode="External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opkam.ru/_files/editor/image/zapoved/kronoki/news/&#1055;&#1080;&#1093;&#1090;&#1072;%20&#1075;&#1088;&#1072;&#1094;&#1080;&#1086;&#1079;&#1085;&#1072;&#1103;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ofe.ru/images/pictures/read-ka/novels/89/larch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4114800" y="2133720"/>
            <a:ext cx="464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ИМОЙ И ЛЕТОМ ОДНИМ ЦВЕТОМ. ЧТО ЭТ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Картинка 5 из 249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19080" y="0"/>
            <a:ext cx="3719520" cy="68580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Картинка 36 из 249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62520" y="3486240"/>
            <a:ext cx="5076720" cy="33717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Картинка 19 из 249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152280"/>
            <a:ext cx="2562480" cy="38102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Картинка 16 из 2499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3048120"/>
            <a:ext cx="3533760" cy="3809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Картинка 2 из 2499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5880" y="152280"/>
            <a:ext cx="2857680" cy="38102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Картинка 12 из 2499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28800" y="380880"/>
            <a:ext cx="5076720" cy="3810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00200" y="2362320"/>
            <a:ext cx="6248520" cy="1739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ЧЕМ ПОХОЖИ И ЧЕМ РАЗЛИЧАЮТСЯ ЭТИ РАСТЕН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Картинка 20 из 249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380880"/>
            <a:ext cx="6829560" cy="36259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380880" y="426708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Эти деревья – ХВОЙНЫЕ, вместо листьев у них ХВОИНКИ (узкие, острые, похожи на иголки)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Картинка 17 из 70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380880"/>
            <a:ext cx="3048120" cy="24386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3429000" y="380880"/>
            <a:ext cx="2819520" cy="24386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400800" y="380880"/>
            <a:ext cx="2514600" cy="2438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28600" y="30481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Н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ПИХТ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ЛИСТВЕННИЦ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228600" y="3505320"/>
            <a:ext cx="2666880" cy="25905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76" name="" descr="Картинка 8 из 6400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48120" y="3505320"/>
            <a:ext cx="3100320" cy="26161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228600" y="62485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ЕДР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Я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Картинка 1 из 6400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48520" y="3505320"/>
            <a:ext cx="2743200" cy="26096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3162240" cy="37339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762120" y="5335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ИЗНАКИ ХВОЙНЫХ ДЕРЕВЬ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62520" y="1676520"/>
            <a:ext cx="4952880" cy="44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Листья – хвоинки, узкие, острые, похожие на игол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Хвоя остаётся зелёной зимой и летом в течение двух и более лет (кроме лиственниц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Плоды – шишки, в которых находятся семен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38080" y="6094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52388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хвойных деревьев листья в вид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пластино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иголок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нет листь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48769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ВЕТ: б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Картинка 26 из 4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2514600"/>
            <a:ext cx="50767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094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676520"/>
            <a:ext cx="81532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У всех хвойных деревьев хвоя зимой и летом остаётся зелёно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д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не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) да, кроме лиственни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9920" y="2514600"/>
            <a:ext cx="2512800" cy="35053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380880" y="51814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ВЕТ: в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6094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ЗНАЙТЕ ДЕРЕВО ПО ЕГО ХВОЕ И ПЛОДА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2280" y="2362320"/>
            <a:ext cx="2971800" cy="28861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92" name="" descr="Картинка 1 из 64000"/>
          <p:cNvPicPr/>
          <p:nvPr/>
        </p:nvPicPr>
        <p:blipFill>
          <a:blip r:embed="rId2"/>
          <a:stretch/>
        </p:blipFill>
        <p:spPr>
          <a:xfrm>
            <a:off x="3276720" y="2438280"/>
            <a:ext cx="2971800" cy="282744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193" name="" descr="Картинка 17 из 706"/>
          <p:cNvPicPr/>
          <p:nvPr/>
        </p:nvPicPr>
        <p:blipFill>
          <a:blip r:embed="rId3"/>
          <a:stretch/>
        </p:blipFill>
        <p:spPr>
          <a:xfrm>
            <a:off x="6400800" y="2438280"/>
            <a:ext cx="2590920" cy="28195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380880" y="57150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КЕД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57150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ЕЛ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0" y="5715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3a9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59436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Картинка 52 из 442"/>
          <p:cNvPicPr/>
          <p:nvPr/>
        </p:nvPicPr>
        <p:blipFill>
          <a:blip r:embed="rId1"/>
          <a:stretch/>
        </p:blipFill>
        <p:spPr>
          <a:xfrm>
            <a:off x="990720" y="304920"/>
            <a:ext cx="7391160" cy="55465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номарева</cp:lastModifiedBy>
  <dcterms:modified xsi:type="dcterms:W3CDTF">2010-12-10T12:13:51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