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EFA-5B41-488A-A680-18C5F708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0713-6C75-4FB6-872F-2D0F579F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933-1E02-42D9-91AB-24A4D839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EE0-F54E-4DE4-BBBB-B949730A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40BA-F515-43B2-867B-3CB50BF8C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BA9B-3F57-42E7-84FA-211F96D4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EFB08-5FD3-48AD-88F9-9D2062CB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2779-141A-432B-9169-BBAD4C84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FC5F-96AF-4DE3-AC1A-6E34588F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08AE-A2D5-4512-81AD-07F5D2700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0E82-EABC-4447-BA3F-FFA0D742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A464-64FC-4E84-A0B9-6553CD33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0477-FB98-472E-A9BF-D5E36BC1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EC4C-1D91-467C-87E6-480DD6D8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43A8-458B-46F9-94B0-8294EFCC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A884-9AE5-4169-9DA6-D71F24279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9EF3-1BDA-403E-B3C3-C7F9CC9AC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34BD-D16D-408C-9B22-2216EDD0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847-44C4-4A3D-9D25-54467576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59C-0F2F-4883-BABA-7DFB658F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B6E1-092A-423A-A9FC-0414BC8D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DEB-4A9A-4574-A6B8-7C12A2D6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974-A206-476D-9065-1E60D199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7373-56CB-4927-823B-3AA80102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ED76-6431-470E-BA7D-4362D036D9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B578-A307-4506-A56A-29E35C02E9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rupnomery.ru/img/plod/shadberry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mnol.narod.ru/img/photo_cvetow/kustarniki/kustarniki_02.jp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119.piczo.com/view/3/e/4/o/w/n/0/p/d/i/z/5/img/i260581156_40097_2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infosad.ru/arboreal/conifer/Photo/Picea_abies_Inversa.JPG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utverles.ru/pics/T_826_1.jpg" TargetMode="External"/><Relationship Id="rId10" Type="http://schemas.openxmlformats.org/officeDocument/2006/relationships/image" Target="../media/image5.jpeg"/><Relationship Id="rId11" Type="http://schemas.openxmlformats.org/officeDocument/2006/relationships/hyperlink" Target="http://vietsciences.free.fr/vietnam/vanchuong/truyen_ngan/images/forsythia.jpg" TargetMode="External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olnsad.ru/image-kust-zveti/42_100.jpg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macroclub.ru/gallery/data/552/85.jpg" TargetMode="Externa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ptekaforte.ru/images/import/foto/00000043237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go.ru/img/o/401bea5a5e0b336718e93e159aaa5eb2.pn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fotoistin.ru/Istin/Derevo/original/38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isada.ru/images/kustarniki-1.jpe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km-tambov.ru/catalog/masla/oil-lesn-orech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www.vestnik-cvetovoda.ru/file/shared/Image/zimol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nusadba.com/_mod_files/ce_images/eshop/sazhency_plodovye_kustarniki_kryzhovnik_grushen_ka_198x200.jpg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www.brusvyana.com.ua/img/cat_sort/45_big.jp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garden.nnover.ru/data/uf2/3379331/4/83/38/4833899_barbaris.jpg" TargetMode="External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lower.onego.ru/conifer/ena_5381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molbiol.ru/forums/uploads/a001/b007/post-12150-1164143475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dic.academic.ru/pictures/wiki/files/75/Koeh-083.jpg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lahov-plus.com/uploads/posts/2010-04/1271886058_1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be1kanobe.ru/_ph/4/2/185933936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portalus.ru/modules/biology/special/trava/herbbook/vidy/campanula-persicifolia.jpg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flower.onego.ru/other/enc_4839.jp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netpulse.ru/info/assets/images/09/trav01.jpg" TargetMode="External"/><Relationship Id="rId8" Type="http://schemas.openxmlformats.org/officeDocument/2006/relationships/image" Target="../media/image22.jpeg"/><Relationship Id="rId9" Type="http://schemas.openxmlformats.org/officeDocument/2006/relationships/hyperlink" Target="http://flower.onego.ru/other/other/ena_4526.jpg" TargetMode="External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lower.onego.ru/zlak/enc_3362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vashsad.ua/downloads/image/7736/pion_2.jpg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foto.rambler.ru/public/marina1190/_photos/birch10/birch10-web.jpg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295280" y="228600"/>
            <a:ext cx="662940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УСТАРНИКИ И ТРАВ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Картинка 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066680"/>
            <a:ext cx="2590560" cy="2068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12" name="" descr="Картинка 3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1066680"/>
            <a:ext cx="2209680" cy="26672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13" name="" descr="Картинка 5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81280" y="3505320"/>
            <a:ext cx="2264040" cy="27432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14" name="" descr="Картинка 31 из 6400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57200" y="4038480"/>
            <a:ext cx="2895480" cy="21733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15" name="" descr="Картинка 39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95880" y="3886200"/>
            <a:ext cx="2590920" cy="24163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16" name="" descr="Картинка 38 из 6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2895480" y="1066680"/>
            <a:ext cx="312444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Картинка 9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"/>
            <a:ext cx="4572000" cy="343044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275" name="" descr="Картинка 7 из 2702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3112920"/>
            <a:ext cx="4771800" cy="3402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029200" y="6094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УСТАР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53341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АВЯНИСТОЕ (злаки пшеницы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33520" y="457200"/>
            <a:ext cx="50292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Сколько ствол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 у деревье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у кустар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у травянистых растений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91320" y="10666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38680" y="1143000"/>
            <a:ext cx="2971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один ство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более дву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нет ствол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335268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Как вы думаете, нужно ли беречь растения? Почему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3520" y="6094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Подумайте и расскажите по картинкам, как человек использует растения в жизн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Картинка 3 из 2702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828800"/>
            <a:ext cx="2049480" cy="30481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84" name="" descr="Картинка 13 из 64000"/>
          <p:cNvPicPr/>
          <p:nvPr/>
        </p:nvPicPr>
        <p:blipFill>
          <a:blip r:embed="rId3"/>
          <a:stretch/>
        </p:blipFill>
        <p:spPr>
          <a:xfrm>
            <a:off x="2971800" y="1828800"/>
            <a:ext cx="2895480" cy="21668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85" name="" descr="Картинка 18 из 64000"/>
          <p:cNvPicPr/>
          <p:nvPr/>
        </p:nvPicPr>
        <p:blipFill>
          <a:blip r:embed="rId4"/>
          <a:stretch/>
        </p:blipFill>
        <p:spPr>
          <a:xfrm>
            <a:off x="2971800" y="4343400"/>
            <a:ext cx="2895480" cy="21733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86" name="" descr="Картинка 1 из 18425"/>
          <p:cNvPicPr/>
          <p:nvPr/>
        </p:nvPicPr>
        <p:blipFill>
          <a:blip r:embed="rId5"/>
          <a:stretch/>
        </p:blipFill>
        <p:spPr>
          <a:xfrm>
            <a:off x="6248520" y="1905120"/>
            <a:ext cx="2342880" cy="31240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38080" y="457200"/>
            <a:ext cx="7239240" cy="10688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ЧЁМ ГЛАВНОЕ ОТЛИЧИЕ КУСТАРНИКОВ ОТ ДЕРЕВЬЕ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Картинка 42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752480"/>
            <a:ext cx="2857320" cy="38102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19" name="" descr="Картинка 12 из 249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1752480"/>
            <a:ext cx="5077080" cy="38102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20" name=""/>
          <p:cNvSpPr/>
          <p:nvPr/>
        </p:nvSpPr>
        <p:spPr>
          <a:xfrm>
            <a:off x="533520" y="5791320"/>
            <a:ext cx="8229600" cy="9471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 дерева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дин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вол, а у кустарников –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несколько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0"/>
            <a:ext cx="7848720" cy="10688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СМОТРИТЕ КАРТИНКИ. ЧТО НА НИХ ИЗОБРАЖЕН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Картинка 1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295280"/>
            <a:ext cx="2971800" cy="22305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1295280"/>
            <a:ext cx="1896840" cy="22860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4" name="" descr="Картинка 65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67280" y="1295280"/>
            <a:ext cx="2990880" cy="22431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2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657600" y="4191120"/>
            <a:ext cx="2036880" cy="2057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Картинка 85 из 64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4114800"/>
            <a:ext cx="2895480" cy="21668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Картинка 118 из 64000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943600" y="4191120"/>
            <a:ext cx="2895480" cy="21733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457200" y="36576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асная смородин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орешник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жимол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64008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ерноплодная рябина      чёрная смородина           барбари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Картинка 24 из 304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838080"/>
            <a:ext cx="3809880" cy="28591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31" name="" descr="Картинка 22 из 304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3733920"/>
            <a:ext cx="3809880" cy="28591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32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 КАКОЙ ГРУППЕ ОТНОСИТСЯ РАСТЕНИ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838080"/>
            <a:ext cx="4267440" cy="5205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ЖЖЕВЕ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Картинка 4 из 14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1447920"/>
            <a:ext cx="3522600" cy="510516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800600" y="380880"/>
            <a:ext cx="4114800" cy="594324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УСТАРНИКИ – многолетние деревянистые растения, которые живут 10 – 20 лет. У кустарников нет главного ствола, как у деревьев. Растут они несколькими деревянистыми стволи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Картинка 7 из 363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457200"/>
            <a:ext cx="4343400" cy="57913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52280" y="228600"/>
            <a:ext cx="8686800" cy="10688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ассмотрите растения. В чём отличия от кустарников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Картинка 9 из 258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066680"/>
            <a:ext cx="2276640" cy="32767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39" name="" descr="Картинка 14 из 258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1066680"/>
            <a:ext cx="2297160" cy="33530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40" name="" descr="Картинка 4 из 2586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95480" y="1752480"/>
            <a:ext cx="3160800" cy="39625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Картинка 1 из 25862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4572000"/>
            <a:ext cx="2590920" cy="19447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42" name="" descr="Картинка 2 из 2586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4648320"/>
            <a:ext cx="2690640" cy="201924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Картинка 16 из 258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143000"/>
            <a:ext cx="3771720" cy="502920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44" name=""/>
          <p:cNvSpPr/>
          <p:nvPr/>
        </p:nvSpPr>
        <p:spPr>
          <a:xfrm>
            <a:off x="609480" y="152280"/>
            <a:ext cx="7848720" cy="5814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АВЯНИСТЫЕ 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24280" y="1143000"/>
            <a:ext cx="3962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ольшинство травянистых растений имеют мягкие, сочные, зелёные стебли. Из травянистых растений выделяют цветковые раст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600200" y="457200"/>
            <a:ext cx="5867280" cy="58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РУППЫ РАСТ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523880"/>
            <a:ext cx="213372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1523880"/>
            <a:ext cx="27432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43600" y="1523880"/>
            <a:ext cx="297180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АВЯНИСТ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371240" y="1066680"/>
            <a:ext cx="121932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1066680"/>
            <a:ext cx="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629400" y="1066680"/>
            <a:ext cx="99072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66680" y="2743200"/>
            <a:ext cx="388620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3505320"/>
            <a:ext cx="388620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205740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97180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5800" y="3733920"/>
            <a:ext cx="3808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4120" y="2057400"/>
            <a:ext cx="0" cy="914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952520" y="297180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97180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952520" y="3733920"/>
            <a:ext cx="3812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5880" y="3505320"/>
            <a:ext cx="228600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5880" y="2895480"/>
            <a:ext cx="228600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4191120"/>
            <a:ext cx="2286000" cy="459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ЛА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10480" y="2057400"/>
            <a:ext cx="0" cy="2362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8381520" y="312408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8381520" y="37339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8381520" y="4419720"/>
            <a:ext cx="228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57200" y="15228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8ae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990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редели, к какой группе относятся данны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Картинка 5 из 258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057400"/>
            <a:ext cx="3571920" cy="38098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pic>
        <p:nvPicPr>
          <p:cNvPr id="272" name="" descr="Картинка 4 из 138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057400"/>
            <a:ext cx="2847960" cy="380988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273" name=""/>
          <p:cNvSpPr/>
          <p:nvPr/>
        </p:nvSpPr>
        <p:spPr>
          <a:xfrm>
            <a:off x="152280" y="60199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авянистые (цветы)       Деревья (лиственны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номарева</cp:lastModifiedBy>
  <dcterms:modified xsi:type="dcterms:W3CDTF">2010-12-16T13:56:4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