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CFF-506E-4C97-ACBC-EF3DD08C9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A34-FAE2-4453-8AFF-86D33E87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CAC-BE42-4F50-A172-A99F451B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FF6-A37C-46D9-A956-B2AB228E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BDED-4B74-4CAA-AD45-46DD82C0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9589-D78C-4031-BFF5-9BD5E278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63FF-3C5D-44BE-AA5E-5263FA74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866-C5D1-426D-9B19-046EA495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E525-1A12-40A9-8E88-3EE64905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309F-7B7E-40D6-BBE6-2B6CAE75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3CC6-C7E1-43E5-A9BB-68D198A7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F414-0AC8-4AB5-921A-6779F638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60F4-ADC3-431E-8AF0-2E600CC1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63E2-C024-46A4-99FB-2605D51E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22F6-3764-4168-9F85-4FD7AD5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8280-9C63-450F-A2E6-FCC30134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DFB9-DA7F-434E-B7C8-6B82ED04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008-2841-4412-9811-12416BCD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DCD8-F5A0-4620-9B24-FA69A34E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1BF-BDDD-49B1-A211-68EB9AA3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90FB-2973-4A87-8F1A-C593B382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8511-BC40-4374-804F-62CB8EE4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116-BEED-4813-B3EE-7DBC0DC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09F5-3E17-47E8-8A47-145A9A66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7FBC-0E0E-4E70-A17D-B93AADD15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4312-5D32-4CF9-8B84-F66E34D8C5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09480"/>
            <a:ext cx="7848360" cy="642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АЛЕНЬКИЕ НЕПОСЕ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Насекомые.  Прувинг - Franz. "/>
          <p:cNvPicPr/>
          <p:nvPr/>
        </p:nvPicPr>
        <p:blipFill>
          <a:blip r:embed="rId1"/>
          <a:stretch/>
        </p:blipFill>
        <p:spPr>
          <a:xfrm>
            <a:off x="4267080" y="1905120"/>
            <a:ext cx="4496040" cy="449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52280" y="1523880"/>
            <a:ext cx="4114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ОПРОС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то такие насекомы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Чем насекомые отличаются от других животных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акие насекомые существу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РИЗНАКИ НАСЕКОМЫ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Строение тела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 ног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отдела тела: голова, грудь, брюшк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сики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рылыш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Тело очень прочное, покрыто хитин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итаются растениями, есть хищник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Обитают в воздухе, в воде, в почв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РАЗНООБРАЗИЕ НАСЕКОМ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Большой дубовый усач.  Луканева Лариса. "/>
          <p:cNvPicPr/>
          <p:nvPr/>
        </p:nvPicPr>
        <p:blipFill>
          <a:blip r:embed="rId1"/>
          <a:stretch/>
        </p:blipFill>
        <p:spPr>
          <a:xfrm>
            <a:off x="457200" y="1371600"/>
            <a:ext cx="2529000" cy="187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38088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САЧ ДУБОВ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Труп комара как способ раскрутки. "/>
          <p:cNvPicPr/>
          <p:nvPr/>
        </p:nvPicPr>
        <p:blipFill>
          <a:blip r:embed="rId2"/>
          <a:stretch/>
        </p:blipFill>
        <p:spPr>
          <a:xfrm>
            <a:off x="3276720" y="1371600"/>
            <a:ext cx="2590560" cy="190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327672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ОМ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Жужелица лесная, полезный жук.  "/>
          <p:cNvPicPr/>
          <p:nvPr/>
        </p:nvPicPr>
        <p:blipFill>
          <a:blip r:embed="rId3"/>
          <a:stretch/>
        </p:blipFill>
        <p:spPr>
          <a:xfrm>
            <a:off x="6172200" y="1371600"/>
            <a:ext cx="2590920" cy="1897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248520" y="342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ЖУЖЕ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весна, водомерки, макро, насекомые. "/>
          <p:cNvPicPr/>
          <p:nvPr/>
        </p:nvPicPr>
        <p:blipFill>
          <a:blip r:embed="rId4"/>
          <a:stretch/>
        </p:blipFill>
        <p:spPr>
          <a:xfrm>
            <a:off x="457200" y="3886200"/>
            <a:ext cx="2514600" cy="188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33520" y="6095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ВОДОМЕР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Альбом &quot;Бабочки (просто картинки. "/>
          <p:cNvPicPr/>
          <p:nvPr/>
        </p:nvPicPr>
        <p:blipFill>
          <a:blip r:embed="rId5"/>
          <a:stretch/>
        </p:blipFill>
        <p:spPr>
          <a:xfrm>
            <a:off x="3276720" y="3886200"/>
            <a:ext cx="2628720" cy="1911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20040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За то, что в позе богомола он охотится.  "/>
          <p:cNvPicPr/>
          <p:nvPr/>
        </p:nvPicPr>
        <p:blipFill>
          <a:blip r:embed="rId6"/>
          <a:stretch/>
        </p:blipFill>
        <p:spPr>
          <a:xfrm>
            <a:off x="6248520" y="3886200"/>
            <a:ext cx="2590560" cy="187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6248520" y="61722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БОГОМ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КИЕ СРЕДСТВА ЗАЩИТЫ ИСПОЛЬЗУЮТ НАСЕКОМЫЕ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8" name="" descr="Как бороться с колорадским жуком. "/>
          <p:cNvPicPr/>
          <p:nvPr/>
        </p:nvPicPr>
        <p:blipFill>
          <a:blip r:embed="rId1"/>
          <a:stretch/>
        </p:blipFill>
        <p:spPr>
          <a:xfrm>
            <a:off x="685800" y="1676520"/>
            <a:ext cx="274320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Липчанин чуть не умер после укуса осы. "/>
          <p:cNvPicPr/>
          <p:nvPr/>
        </p:nvPicPr>
        <p:blipFill>
          <a:blip r:embed="rId2"/>
          <a:stretch/>
        </p:blipFill>
        <p:spPr>
          <a:xfrm>
            <a:off x="5791320" y="4567320"/>
            <a:ext cx="2971800" cy="2050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anikolaev. божья коровка.  26.08.2005, 03:07. "/>
          <p:cNvPicPr/>
          <p:nvPr/>
        </p:nvPicPr>
        <p:blipFill>
          <a:blip r:embed="rId3"/>
          <a:stretch/>
        </p:blipFill>
        <p:spPr>
          <a:xfrm>
            <a:off x="2971800" y="2286000"/>
            <a:ext cx="3390840" cy="25430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О чем рассказал кузнечик, или Для чего..."/>
          <p:cNvPicPr/>
          <p:nvPr/>
        </p:nvPicPr>
        <p:blipFill>
          <a:blip r:embed="rId4"/>
          <a:stretch/>
        </p:blipFill>
        <p:spPr>
          <a:xfrm>
            <a:off x="762120" y="44197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РЕДСТВА ЗАЩИТ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ЕЮТ ЯРКУЮ ОКРАСКУ (ЗАПУГИВАЮТ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ВЫПУСКАЮТ ЯДОВИТУЮ ЖИДКОСТ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ЕЮТ ЖАЛО, КУСА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ЕЮТ ПОКРОВИТЕЛЬСТВЕННУЮ (НЕЗАМЕТНУЮ) ОКРА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10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остом мал, но работящ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 охотник настоящ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ом из хвоинок собирае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ес от гусениц спасае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Фотография 1. Коллективные насекомые. 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3671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525780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УРАВ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89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цветке сиди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«цветок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ьёт нектар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цветочный со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АБОЧ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Re:Насекомые.  Репутация: 13. "/>
          <p:cNvPicPr/>
          <p:nvPr/>
        </p:nvPicPr>
        <p:blipFill>
          <a:blip r:embed="rId1"/>
          <a:stretch/>
        </p:blipFill>
        <p:spPr>
          <a:xfrm>
            <a:off x="3657600" y="1752480"/>
            <a:ext cx="5181480" cy="3886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3048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д цветками я жужжу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лый день в заботах –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Я пыльцу в карман беру, Наполняю со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ЧЕ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Обычно пчела выясняет, есть ли сироп в..."/>
          <p:cNvPicPr/>
          <p:nvPr/>
        </p:nvPicPr>
        <p:blipFill>
          <a:blip r:embed="rId1"/>
          <a:stretch/>
        </p:blipFill>
        <p:spPr>
          <a:xfrm>
            <a:off x="3809880" y="1828800"/>
            <a:ext cx="4724640" cy="4079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Разновидностей стрекоз много.  "/>
          <p:cNvPicPr/>
          <p:nvPr/>
        </p:nvPicPr>
        <p:blipFill>
          <a:blip r:embed="rId1"/>
          <a:stretch/>
        </p:blipFill>
        <p:spPr>
          <a:xfrm>
            <a:off x="3505320" y="1752480"/>
            <a:ext cx="5219640" cy="411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2362320"/>
            <a:ext cx="28954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а ромашку у воро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пустился вертолё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5334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ТРЕКО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Божья коровка и ее добыча - тля.  Всем привет.  "/>
          <p:cNvPicPr/>
          <p:nvPr/>
        </p:nvPicPr>
        <p:blipFill>
          <a:blip r:embed="rId1"/>
          <a:stretch/>
        </p:blipFill>
        <p:spPr>
          <a:xfrm>
            <a:off x="3962520" y="1752480"/>
            <a:ext cx="4886280" cy="366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152280" y="2286000"/>
            <a:ext cx="3733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 садово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 о саде заботи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Целыми дн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За тлями охотит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5867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БОЖЬЯ КОР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ТО ЭТО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" descr="ПЛАЧ ПО КУЗНЕЧИКУ.  Милые кузнечики мои.  "/>
          <p:cNvPicPr/>
          <p:nvPr/>
        </p:nvPicPr>
        <p:blipFill>
          <a:blip r:embed="rId1"/>
          <a:stretch/>
        </p:blipFill>
        <p:spPr>
          <a:xfrm>
            <a:off x="3657600" y="1981080"/>
            <a:ext cx="4624560" cy="348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533520" y="2362320"/>
            <a:ext cx="26668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мя взял у кузне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у а цвет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гур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5867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УЗНЕЧ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ПЛАН ХАРАКТЕРИСТИКИ ЖИВОТНЫХ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Строение тела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Чем покрыто тело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Чем питает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Как размножает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Где живё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ТРОЕНИЕ НАСЕКОМЫ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" descr="Животные: Муравей. "/>
          <p:cNvPicPr/>
          <p:nvPr/>
        </p:nvPicPr>
        <p:blipFill>
          <a:blip r:embed="rId1"/>
          <a:stretch/>
        </p:blipFill>
        <p:spPr>
          <a:xfrm>
            <a:off x="457200" y="1828800"/>
            <a:ext cx="3962520" cy="4762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H="1">
            <a:off x="2971440" y="213372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6720" y="2133720"/>
            <a:ext cx="129564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1828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УС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71800" y="2133720"/>
            <a:ext cx="18288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123720" y="5715000"/>
            <a:ext cx="251460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5715000"/>
            <a:ext cx="2057400" cy="76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86400" y="5410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 ЛА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429000" y="2895480"/>
            <a:ext cx="228600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666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ОЛ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3429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ГРУД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895480" y="3733920"/>
            <a:ext cx="28958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438280" y="5029200"/>
            <a:ext cx="327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7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БРЮШК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 Александровна</cp:lastModifiedBy>
  <dcterms:modified xsi:type="dcterms:W3CDTF">2011-03-31T16:38:0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