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B57-BC52-48D8-A1AB-748CA18E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CDA-9218-412C-87A6-DEE12A92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04E-88A7-4978-A4B9-FC586837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5DA7-1E59-40CD-85F0-C4A21D09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804E-36A5-4896-BEED-EC88901A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659C-C0D7-4C78-92F4-492C532E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E001-75F8-4D43-A770-21CC9429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92EA-3DE9-4405-A1BE-0592D51C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D24B-1050-4004-BCA8-0F0DDA6C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1142-E38A-43DB-B132-F92EDC66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ECE6-49CA-4CA0-A2F5-C01FD0A3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A4E-8261-47C0-A873-5537C254F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792B-D9E4-48F2-829F-4791B937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F2DE-839D-4076-8DF9-79414490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3B75-40F8-4A22-B766-7CDEE9EF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A943-C2DB-48FE-AAA8-5C4055D3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4DBB-8B63-4F96-92FF-F75EC498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9B2C-042B-45D5-8326-DD8701C5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DD32-8214-4DE8-80E1-6FC624DF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944-02ED-4CB6-9299-C4F18037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D5E9-A52E-4648-97FE-A60DD81E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16F-00AE-4E50-B207-E3B442D6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285A-0F46-4025-A5ED-A05BA880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EBC-51B2-47E2-8058-88800902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8C24-49EF-462F-A1EE-6BD772082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BE1C-0514-48A4-9903-D7F7A1DC7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oyng.narod.ru/tav/podsolnuh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kedem.ru/photo/news/20091012-kurbis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oneygarden.ru/vegetables/cucumber/cucumber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media.tumblr.com/tumblr_l5tfvmnWtw1qb8y6s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g0.liveinternet.ru/images/attach/c/1/56/764/56764192_1255431958_19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img-fotki.yandex.ru/get/1/ra1tce.0/0_8aa_176ab0a0_XL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bratz-cool2007.narod.ru/krijovnik.jpg" TargetMode="External"/><Relationship Id="rId10" Type="http://schemas.openxmlformats.org/officeDocument/2006/relationships/image" Target="../media/image8.jpeg"/><Relationship Id="rId11" Type="http://schemas.openxmlformats.org/officeDocument/2006/relationships/hyperlink" Target="http://content.foto.mail.ru/mail/sterwaauy/_blogs/i-7015.jpg" TargetMode="External"/><Relationship Id="rId12" Type="http://schemas.openxmlformats.org/officeDocument/2006/relationships/image" Target="../media/image9.jpeg"/><Relationship Id="rId13" Type="http://schemas.openxmlformats.org/officeDocument/2006/relationships/hyperlink" Target="http://www.newslab.ru/photoalbum/911/10412.jpg" TargetMode="External"/><Relationship Id="rId14" Type="http://schemas.openxmlformats.org/officeDocument/2006/relationships/image" Target="../media/image10.jpeg"/><Relationship Id="rId15" Type="http://schemas.openxmlformats.org/officeDocument/2006/relationships/hyperlink" Target="http://img0.liveinternet.ru/images/attach/c/1/60/217/60217405_1276339464_1236702963_4.jpg" TargetMode="External"/><Relationship Id="rId16" Type="http://schemas.openxmlformats.org/officeDocument/2006/relationships/image" Target="../media/image11.jpeg"/><Relationship Id="rId17" Type="http://schemas.openxmlformats.org/officeDocument/2006/relationships/hyperlink" Target="http://therevelationpainting.files.wordpress.com/2009/12/448px-betula_pendula-birch.jpg?w=369&amp;h=632" TargetMode="External"/><Relationship Id="rId18" Type="http://schemas.openxmlformats.org/officeDocument/2006/relationships/image" Target="../media/image12.jpeg"/><Relationship Id="rId19" Type="http://schemas.openxmlformats.org/officeDocument/2006/relationships/hyperlink" Target="http://content.foto.mail.ru/mail/gri99/Levitan/i-9586.jpg" TargetMode="External"/><Relationship Id="rId20" Type="http://schemas.openxmlformats.org/officeDocument/2006/relationships/image" Target="../media/image13.jpe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006.radikal.ru/i213/1001/52/193f3eb5f27e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-gif.ru/wp-content/uploads/2010/08/78068_Canon0831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4572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 КАКОМ ВРЕМЕНИ ГОДА ГОВОРИТСЯ В СТИХОТВОР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752480"/>
            <a:ext cx="88394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шла на рассвете, на миг не присе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круг огляделась – и сразу за де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лину с рябиной раскрасила густ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крепких зубах захрустела капуст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мельницах свежей мукой забеле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ранжевым шёлком берёзы оде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урчавую озимь ковром расстели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далёкий полёт журавлей проводи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Картинка 26 из 64000"/>
          <p:cNvPicPr/>
          <p:nvPr/>
        </p:nvPicPr>
        <p:blipFill>
          <a:blip r:embed="rId1"/>
          <a:stretch/>
        </p:blipFill>
        <p:spPr>
          <a:xfrm>
            <a:off x="5715000" y="190512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4572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МЕТЫ ОСЕ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219320"/>
            <a:ext cx="853452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ни короче – ночи длинне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емпература воздуха понижается, становится холоднее, осадки в виде дожд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Животные готовятся к зиме, делают запасы; звери линяют, птицы улетают в тёплые края, насекомые прячутся в зем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истья на деревьях и кустарниках меняют цвет: желтеют, краснеют; затем опадают – начинается листопа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Люди собирают урож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533520"/>
            <a:ext cx="8077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КУЛЬТУРНЫЕ РАСТЕНИЯ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стения, которые дают большой урожай полезных и вкусных плодов,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специально выращенные людьми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Картинка 57 из 339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124080"/>
            <a:ext cx="4114800" cy="3087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26" name="" descr="Картинка 66 из 339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3124080"/>
            <a:ext cx="4114800" cy="3076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90920" y="380880"/>
            <a:ext cx="37335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СТ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21932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УЛЬТУР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1295280"/>
            <a:ext cx="3124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ИКОРАСТУЩ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752120" y="68580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6858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685800"/>
            <a:ext cx="76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86600" y="685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Картинка 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828800"/>
            <a:ext cx="126540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5" name="" descr="Картинка 5 из 64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1828800"/>
            <a:ext cx="1981080" cy="158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6" name="" descr="Картинка 10 из 6400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3657600"/>
            <a:ext cx="1238400" cy="1447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7" name="" descr="Картинка 5 из 61197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828800" y="3657600"/>
            <a:ext cx="1981080" cy="1487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8" name="" descr="Картинка 3 из 1236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57200" y="5257800"/>
            <a:ext cx="1200240" cy="1600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9" name="" descr="Картинка 3 из 5792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828800" y="5295960"/>
            <a:ext cx="2081160" cy="1562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0" name="" descr="Картинка 5 из 64000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257800" y="1981080"/>
            <a:ext cx="1461960" cy="1297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1" name="" descr="Картинка 5 из 64000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6858000" y="1981080"/>
            <a:ext cx="1752480" cy="1312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2" name="" descr="Картинка 11 из 64000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4800600" y="3581280"/>
            <a:ext cx="1766880" cy="2362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3" name="" descr="Картинка 9 из 64000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6705720" y="3581280"/>
            <a:ext cx="2273040" cy="2362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080" y="53352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ДИНАКОВЫЕ ЛИ УСЛОВИЯ РОСТА КУЛЬТУРНЫХ И ДИКОРАСТУЩИХ РАСТЕ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Картинка 3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2362320"/>
            <a:ext cx="5457960" cy="4095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8580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ОЖЕТ ЛИ КУЛЬТУРНОЕ РАСТЕНИЕ ВНОВЬ СТАТЬ ДИКОРАСТУЩИ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Картинка 2 из 201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209680"/>
            <a:ext cx="5638680" cy="3756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95280" y="609480"/>
            <a:ext cx="69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АВИЛА УХОДА ЗА КУЛЬТУРНЫМИ РАСТЕНИ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2057400"/>
            <a:ext cx="4343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нать условия рос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гулярно полив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ыхлить зем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ничтожать сорня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добря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щищать от холода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Картинка 2 из 5902"/>
          <p:cNvPicPr/>
          <p:nvPr/>
        </p:nvPicPr>
        <p:blipFill>
          <a:blip r:embed="rId1"/>
          <a:stretch/>
        </p:blipFill>
        <p:spPr>
          <a:xfrm>
            <a:off x="4343400" y="2286000"/>
            <a:ext cx="4543560" cy="347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номарева</cp:lastModifiedBy>
  <dcterms:modified xsi:type="dcterms:W3CDTF">2011-01-13T14:16:3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