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8FB0-26AC-4211-8EA6-7CEC6B4F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2CC3-1A1C-487A-8334-27F4DB0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0C28-8244-4641-AF96-6D138D95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2040-7AC2-48BE-860B-FCEC2643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A3C5-2601-4BF0-BC0B-20455B6D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02EA-0A64-4339-B9E4-F9EF24F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7C4E-EE36-4AA0-BBE7-A8748A23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8FE2-0F39-4E2F-9AF8-59AEBC1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5253-C866-4E4F-A8CE-6BB9CEF0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069-B40D-47E1-9DC9-4173C72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ABD-B815-4407-B7BD-CC3F659C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C56A-87E2-43E4-9F61-3D3B470C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BB1E-822D-4FC7-852E-F4D7A36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C8B-E4F2-4A46-904B-C821918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891E-D1F9-488D-A23B-B3300D2B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A0F0-E964-46D5-AE2B-F218AC3F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C04-D13F-4AF2-88E0-93212E2C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AF74-F2EA-4FDC-BC9D-BA3AD16B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13FF-D40D-4DE0-8A3A-D7CC90A4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F527-C26C-4471-A9DF-D92416DF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FA45-1C0E-41AB-8B99-2835ACA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5C74-A3A6-479B-8B8B-0F36076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B1EE-48E4-464E-BDE7-A13B4CF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D496-E59B-44D1-BB23-2D262F2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CB9-5FBB-4FF2-8FEE-AAC0AE0EE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EDF-C15C-440C-883D-FA4926376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45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 СЕМЬЕ ДРУЗЕЙ ПЕРНАТ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Красивые фото птиц (29 фото)"/>
          <p:cNvPicPr/>
          <p:nvPr/>
        </p:nvPicPr>
        <p:blipFill>
          <a:blip r:embed="rId1"/>
          <a:stretch/>
        </p:blipFill>
        <p:spPr>
          <a:xfrm>
            <a:off x="762120" y="1219320"/>
            <a:ext cx="3581280" cy="238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" descr="Красивые фото птиц (29 фото)"/>
          <p:cNvPicPr/>
          <p:nvPr/>
        </p:nvPicPr>
        <p:blipFill>
          <a:blip r:embed="rId2"/>
          <a:stretch/>
        </p:blipFill>
        <p:spPr>
          <a:xfrm>
            <a:off x="4532400" y="1219320"/>
            <a:ext cx="394812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" descr="Красивые фото птиц (29 фото)"/>
          <p:cNvPicPr/>
          <p:nvPr/>
        </p:nvPicPr>
        <p:blipFill>
          <a:blip r:embed="rId3"/>
          <a:stretch/>
        </p:blipFill>
        <p:spPr>
          <a:xfrm>
            <a:off x="762120" y="3809880"/>
            <a:ext cx="3581280" cy="268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В СЕМЬЕ ДРУЗЕЙ ПЕРНАТЫХ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3657600" cy="243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403440" cy="51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365760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4952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ПТИЦ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00200"/>
            <a:ext cx="259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ЗЕРНОЯ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98108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НАСЕКОМОЯ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52388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ХИЩ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294920" y="838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8380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838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361960" cy="19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286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ТЕТЕР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2361960" cy="177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304920" y="6477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ЛУХ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324480" y="21337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477120" y="4038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ЯСТРЕ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324480" y="4343400"/>
            <a:ext cx="2514600" cy="176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4008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ИП БЕЛОГОЛ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00400" y="2514600"/>
            <a:ext cx="2705040" cy="180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ТРЯСОГУ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429000" y="4648320"/>
            <a:ext cx="2400480" cy="211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ЗНАКИ ПТИ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Дикие и домашние птицы - векторный..."/>
          <p:cNvPicPr/>
          <p:nvPr/>
        </p:nvPicPr>
        <p:blipFill>
          <a:blip r:embed="rId1"/>
          <a:stretch/>
        </p:blipFill>
        <p:spPr>
          <a:xfrm>
            <a:off x="380880" y="1219320"/>
            <a:ext cx="380052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724280" y="1219320"/>
            <a:ext cx="3962520" cy="71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ело покрыто пер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троение тела: голова с клювом, шея, туловище, хвост, 2 ноги с тремя или четырьмя пальцами, на которых острые когти, крыл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ольшинство птиц лет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ыводят потомство, откладывая яйца, из которых вылупляются птен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Чем различаются перья птиц?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ТИПЫ ПЕРЬЕВ ПТИЦ: 1. Маховое перо.  "/>
          <p:cNvPicPr/>
          <p:nvPr/>
        </p:nvPicPr>
        <p:blipFill>
          <a:blip r:embed="rId1"/>
          <a:stretch/>
        </p:blipFill>
        <p:spPr>
          <a:xfrm>
            <a:off x="457200" y="1752480"/>
            <a:ext cx="3733920" cy="29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" descr="Перья птиц.  "/>
          <p:cNvPicPr/>
          <p:nvPr/>
        </p:nvPicPr>
        <p:blipFill>
          <a:blip r:embed="rId2"/>
          <a:stretch/>
        </p:blipFill>
        <p:spPr>
          <a:xfrm>
            <a:off x="4381560" y="1752480"/>
            <a:ext cx="4457520" cy="296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80880" y="51814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АХОВЫЕ ПЕ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могают лет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105520"/>
            <a:ext cx="3048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УХОВЫЕ ПЕРЬ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храняют тепло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5943600"/>
            <a:ext cx="3733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КРОВНЫЕ ПЕ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ащищают тело от ветра и вла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Лучик света - загадки детям: птицы. "/>
          <p:cNvPicPr/>
          <p:nvPr/>
        </p:nvPicPr>
        <p:blipFill>
          <a:blip r:embed="rId1"/>
          <a:stretch/>
        </p:blipFill>
        <p:spPr>
          <a:xfrm>
            <a:off x="533520" y="1219320"/>
            <a:ext cx="353052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343400" y="1143000"/>
            <a:ext cx="44956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тицы обитают в лесу, у водоёма, на болоте, в го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тицы бывают по способу питания зерноядные, насекомоядные, хищ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сновное отличие птиц от других животных – оперение. Перья бывают разной величины и формы. Пуховые перья сохраняют тепло птицы, покровные – защищают тело от ветра и влаги. Маховые перья помогают ле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Александровна</cp:lastModifiedBy>
  <dcterms:modified xsi:type="dcterms:W3CDTF">2011-03-03T18:53:1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