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7.jpeg" ContentType="image/jpeg"/>
  <Override PartName="/ppt/media/image20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95DB6-5816-42B9-B517-585E289C8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CDFED-208D-453E-BBF5-0FAFE38EF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2B2BB-99EC-4E31-B4D9-F77486F62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C8976-975E-4BFD-A571-C3A7D8E70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82CE9-C4A2-4079-8641-7F7B4DC7D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8034B-D0CE-48F9-93CB-0CB5EC67C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09122-5CDA-43A5-AE90-07AF4B061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CB0D0-CCE9-4B9E-AF03-2D8FE640E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CF2F7-76BA-4B95-831C-6CCFD661D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A0829-E1F0-45BD-A106-D5E1BA6C5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8A2FC-7B41-484E-9611-D0A4B6156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F2022-C6EA-4DA5-B716-DFB6487D4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4B764-ED9F-4A54-9FD2-F3FAD5C93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22998-4741-4180-8B5F-7347BF337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30B09-0455-4171-9846-C90BC8C35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D43C5-24B2-4B90-B084-7E21DE07D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61708-6870-4CC6-A31B-8F9466ECC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6B44C-00E1-4B84-9E6A-B4FDC6DB7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7FA16-47EA-444C-8CED-0344FB481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F002C-5E90-444F-9F84-7277C9561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C2CEC-1E54-429C-BEAC-A57952AE7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AAEDB-0F83-4E11-A360-57D4FF68C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74156-CA02-485E-9092-3E9700B94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A7616-B4B8-460E-A1DE-ECE4F1F9D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56F23-E0B3-436C-A78A-9C8F9850CD7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18C06-A611-42F5-A879-A3F88A47048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Летучие насекомые.  Блог Коляна. 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ПРИГЛЯДИСЬ И УДИВИСЬ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СРАВНИТЕ ЖУКОВ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23" name="" descr="Фото &quot;Божья коровка&quot; 269 k (1354x1143) Божья..."/>
          <p:cNvPicPr/>
          <p:nvPr/>
        </p:nvPicPr>
        <p:blipFill>
          <a:blip r:embed="rId1"/>
          <a:stretch/>
        </p:blipFill>
        <p:spPr>
          <a:xfrm>
            <a:off x="533520" y="1447920"/>
            <a:ext cx="2361960" cy="19936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24" name="" descr="Ученые смогли выяснить, как тли могут..."/>
          <p:cNvPicPr/>
          <p:nvPr/>
        </p:nvPicPr>
        <p:blipFill>
          <a:blip r:embed="rId2"/>
          <a:stretch/>
        </p:blipFill>
        <p:spPr>
          <a:xfrm>
            <a:off x="533520" y="4114800"/>
            <a:ext cx="2361960" cy="16812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25" name="" descr="Жуки и личинки колорадского жука очень..."/>
          <p:cNvPicPr/>
          <p:nvPr/>
        </p:nvPicPr>
        <p:blipFill>
          <a:blip r:embed="rId3"/>
          <a:stretch/>
        </p:blipFill>
        <p:spPr>
          <a:xfrm>
            <a:off x="3200400" y="1447920"/>
            <a:ext cx="2438280" cy="19857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26" name="" descr="Колорадский жук - борьба с колорадским жуком. "/>
          <p:cNvPicPr/>
          <p:nvPr/>
        </p:nvPicPr>
        <p:blipFill>
          <a:blip r:embed="rId4"/>
          <a:stretch/>
        </p:blipFill>
        <p:spPr>
          <a:xfrm>
            <a:off x="3276720" y="4114800"/>
            <a:ext cx="2361960" cy="17715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27" name="" descr="называется красиво - Жук-могильщик, а вы ТитБит.  "/>
          <p:cNvPicPr/>
          <p:nvPr/>
        </p:nvPicPr>
        <p:blipFill>
          <a:blip r:embed="rId5"/>
          <a:stretch/>
        </p:blipFill>
        <p:spPr>
          <a:xfrm>
            <a:off x="5943600" y="1447920"/>
            <a:ext cx="2666880" cy="20271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28" name="" descr="Красотел пахучий. "/>
          <p:cNvPicPr/>
          <p:nvPr/>
        </p:nvPicPr>
        <p:blipFill>
          <a:blip r:embed="rId6"/>
          <a:stretch/>
        </p:blipFill>
        <p:spPr>
          <a:xfrm>
            <a:off x="6019920" y="4114800"/>
            <a:ext cx="2514600" cy="1760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29" name=""/>
          <p:cNvSpPr/>
          <p:nvPr/>
        </p:nvSpPr>
        <p:spPr>
          <a:xfrm>
            <a:off x="533520" y="3581280"/>
            <a:ext cx="236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БОЖЬЯ КОРОВК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33520" y="6095880"/>
            <a:ext cx="228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ТЛ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200400" y="35053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КОЛОРАДСКИЙ ЖУ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352680" y="6032520"/>
            <a:ext cx="2210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ЛИЧИНКИ КОЛОРАДСКОГО ЖУК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019920" y="609588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КРАСОТЕЛ ПАХУЧИЙ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943600" y="358128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ЖУК-МОГИЛЬЩИ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ДЛЯ ЛЮБОЗНАТЕЛЬНЫХ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6" name="" descr="Алла. жук-ОЛЕНЬ. хочу увидеть микроба.  "/>
          <p:cNvPicPr/>
          <p:nvPr/>
        </p:nvPicPr>
        <p:blipFill>
          <a:blip r:embed="rId1"/>
          <a:stretch/>
        </p:blipFill>
        <p:spPr>
          <a:xfrm>
            <a:off x="685800" y="1523880"/>
            <a:ext cx="3809880" cy="29019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37" name="" descr="Взлёт жука-оленя.  Пт) 30 Октябрь 2009. "/>
          <p:cNvPicPr/>
          <p:nvPr/>
        </p:nvPicPr>
        <p:blipFill>
          <a:blip r:embed="rId2"/>
          <a:stretch/>
        </p:blipFill>
        <p:spPr>
          <a:xfrm>
            <a:off x="4648320" y="2743200"/>
            <a:ext cx="3733560" cy="36576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38" name=""/>
          <p:cNvSpPr/>
          <p:nvPr/>
        </p:nvSpPr>
        <p:spPr>
          <a:xfrm>
            <a:off x="4800600" y="1600200"/>
            <a:ext cx="350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ЖУК-ОЛЕН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85800" y="4648320"/>
            <a:ext cx="3809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ДЛЯ ЛЮБОЗНАТЕЛЬНЫХ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1" name="" descr="Насекомые.  Жук-носорог.  Просмотров: 55.  "/>
          <p:cNvPicPr/>
          <p:nvPr/>
        </p:nvPicPr>
        <p:blipFill>
          <a:blip r:embed="rId1"/>
          <a:stretch/>
        </p:blipFill>
        <p:spPr>
          <a:xfrm>
            <a:off x="914400" y="1523880"/>
            <a:ext cx="3657600" cy="27432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42" name="" descr="Набрав личинок жука носорога, их хранят в..."/>
          <p:cNvPicPr/>
          <p:nvPr/>
        </p:nvPicPr>
        <p:blipFill>
          <a:blip r:embed="rId2"/>
          <a:stretch/>
        </p:blipFill>
        <p:spPr>
          <a:xfrm>
            <a:off x="4724280" y="3886200"/>
            <a:ext cx="3638520" cy="24843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43" name=""/>
          <p:cNvSpPr/>
          <p:nvPr/>
        </p:nvSpPr>
        <p:spPr>
          <a:xfrm>
            <a:off x="4876920" y="1600200"/>
            <a:ext cx="350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ЖУК-НОСОРО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990720" y="5410080"/>
            <a:ext cx="350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ЛИЧИНКА ЖУКА-НОСОРОГ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ДЛЯ ЛЮБОЗНАТЕЛЬНЫХ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6" name="" descr="Жук - актеон, длина до 13 см. Жук - голиаф..."/>
          <p:cNvPicPr/>
          <p:nvPr/>
        </p:nvPicPr>
        <p:blipFill>
          <a:blip r:embed="rId1"/>
          <a:stretch/>
        </p:blipFill>
        <p:spPr>
          <a:xfrm>
            <a:off x="914400" y="1447920"/>
            <a:ext cx="3809880" cy="28573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47" name="" descr="Robert Lang - Goliath Beetle (Жук-Голиаф. "/>
          <p:cNvPicPr/>
          <p:nvPr/>
        </p:nvPicPr>
        <p:blipFill>
          <a:blip r:embed="rId2"/>
          <a:stretch/>
        </p:blipFill>
        <p:spPr>
          <a:xfrm>
            <a:off x="4800600" y="3581280"/>
            <a:ext cx="3809880" cy="28576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48" name=""/>
          <p:cNvSpPr/>
          <p:nvPr/>
        </p:nvSpPr>
        <p:spPr>
          <a:xfrm>
            <a:off x="990720" y="5562720"/>
            <a:ext cx="373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ЖУК-ГОЛИАФ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029200" y="167652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ЖУК-ГЕРКУЛЕ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БАБОЧКИ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51" name="" descr="Фото 69.  Появилась первая бабочка - жёлтая..."/>
          <p:cNvPicPr/>
          <p:nvPr/>
        </p:nvPicPr>
        <p:blipFill>
          <a:blip r:embed="rId1"/>
          <a:stretch/>
        </p:blipFill>
        <p:spPr>
          <a:xfrm>
            <a:off x="304920" y="1371600"/>
            <a:ext cx="2514600" cy="18939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52" name=""/>
          <p:cNvSpPr/>
          <p:nvPr/>
        </p:nvSpPr>
        <p:spPr>
          <a:xfrm>
            <a:off x="0" y="3429000"/>
            <a:ext cx="289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ЛИМОННИЦ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3" name="" descr="Крапивница (или шоколадница) выглядит вот так.  "/>
          <p:cNvPicPr/>
          <p:nvPr/>
        </p:nvPicPr>
        <p:blipFill>
          <a:blip r:embed="rId2"/>
          <a:stretch/>
        </p:blipFill>
        <p:spPr>
          <a:xfrm>
            <a:off x="3200400" y="1371600"/>
            <a:ext cx="2514600" cy="1895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54" name=""/>
          <p:cNvSpPr/>
          <p:nvPr/>
        </p:nvSpPr>
        <p:spPr>
          <a:xfrm>
            <a:off x="3048120" y="3429000"/>
            <a:ext cx="289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КРАПИВНИЦ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" descr="Капустница (бабочка. "/>
          <p:cNvPicPr/>
          <p:nvPr/>
        </p:nvPicPr>
        <p:blipFill>
          <a:blip r:embed="rId3"/>
          <a:stretch/>
        </p:blipFill>
        <p:spPr>
          <a:xfrm>
            <a:off x="6019920" y="1371600"/>
            <a:ext cx="2819160" cy="18622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56" name=""/>
          <p:cNvSpPr/>
          <p:nvPr/>
        </p:nvSpPr>
        <p:spPr>
          <a:xfrm>
            <a:off x="5943600" y="3429000"/>
            <a:ext cx="289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КАПУСТНИЦ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" name="" descr="Теги. глаз. лето. макро. бабочка. павлиний. отражение.  "/>
          <p:cNvPicPr/>
          <p:nvPr/>
        </p:nvPicPr>
        <p:blipFill>
          <a:blip r:embed="rId4"/>
          <a:stretch/>
        </p:blipFill>
        <p:spPr>
          <a:xfrm>
            <a:off x="380880" y="4114800"/>
            <a:ext cx="2514600" cy="18860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58" name=""/>
          <p:cNvSpPr/>
          <p:nvPr/>
        </p:nvSpPr>
        <p:spPr>
          <a:xfrm>
            <a:off x="0" y="6095880"/>
            <a:ext cx="35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ПАВЛИНИЙ ГЛАЗ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" descr="махаон, бабочка, махаон, торгачкин, torgachkin..."/>
          <p:cNvPicPr/>
          <p:nvPr/>
        </p:nvPicPr>
        <p:blipFill>
          <a:blip r:embed="rId5"/>
          <a:stretch/>
        </p:blipFill>
        <p:spPr>
          <a:xfrm>
            <a:off x="3200400" y="4114800"/>
            <a:ext cx="2590920" cy="19288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60" name=""/>
          <p:cNvSpPr/>
          <p:nvPr/>
        </p:nvSpPr>
        <p:spPr>
          <a:xfrm>
            <a:off x="3429000" y="609588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МАХАО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1" name="" descr="аполлон (Parnassius apollo), бабочка, фото..."/>
          <p:cNvPicPr/>
          <p:nvPr/>
        </p:nvPicPr>
        <p:blipFill>
          <a:blip r:embed="rId6"/>
          <a:stretch/>
        </p:blipFill>
        <p:spPr>
          <a:xfrm>
            <a:off x="6172200" y="4114800"/>
            <a:ext cx="2590920" cy="19432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62" name=""/>
          <p:cNvSpPr/>
          <p:nvPr/>
        </p:nvSpPr>
        <p:spPr>
          <a:xfrm>
            <a:off x="6172200" y="609588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АПОЛЛО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СТАДИИ РАЗВИТИЯ БОБОЧКИ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64" name="" descr="Стадии развития тутового шелкопряда. "/>
          <p:cNvPicPr/>
          <p:nvPr/>
        </p:nvPicPr>
        <p:blipFill>
          <a:blip r:embed="rId1"/>
          <a:stretch/>
        </p:blipFill>
        <p:spPr>
          <a:xfrm>
            <a:off x="685800" y="1371600"/>
            <a:ext cx="2859120" cy="525780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3962520" y="1523880"/>
            <a:ext cx="3809880" cy="58140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bb5f0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ЛИЧИНК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962520" y="2819520"/>
            <a:ext cx="3809880" cy="58140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bb5f0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ГУСЕНИЦ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962520" y="4114800"/>
            <a:ext cx="3809880" cy="106884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bb5f0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КОКОН И КУКОЛ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962520" y="5867280"/>
            <a:ext cx="3809880" cy="58140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bb5f0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БАБОЧ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791320" y="2133720"/>
            <a:ext cx="0" cy="6858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791320" y="3429000"/>
            <a:ext cx="0" cy="6858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791320" y="5181480"/>
            <a:ext cx="0" cy="6858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04920" y="2775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ПРАВИЛА ПОВЕДЕНИЯ В ПРИРОДЕ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Нельзя ловить насекомых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мотреть под ноги, случайно не раздавить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Не трогать лечинки насекомых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Нельзя убивать насекомых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Нельзя разрушать муравейники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_2</cp:lastModifiedBy>
  <dcterms:modified xsi:type="dcterms:W3CDTF">2011-04-04T06:44:30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