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5E8E-62E5-4447-9BC6-52B482EB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BE3-DF70-40F9-96B5-A0489470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212D-FD24-490F-B9EA-43205F58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D46-5DA9-4A4E-A50E-883B330E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8820-A088-420B-8ABC-CCD315C4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49BD-B29A-4C36-8ED7-44C1C6DE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1E7E-77BC-4AF6-BD1A-D4CBC1FA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2B32-452F-475E-85FC-771B9E1A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7ACD-9737-473A-80D3-211B9E6D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2E95-E994-4415-B01A-9E556964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6E52-B0B1-41B4-B00C-DF986C4B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F599-138F-447C-89B4-DB823FD3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F4D8-A86A-491A-961C-B6D1D301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75B7-0AB4-46B1-AC96-42AC6082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6876-F6C9-4057-A1B6-FC84D8C8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8BDC-E704-4A75-8E5C-F5200424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8454-F2EC-467A-98B1-1EA4CE787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3E43-CF6B-4297-9FC4-A5F114DC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75B4-C335-41CF-9048-ABFC78A8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4852-9231-42D6-A349-A746C20F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9B0F-A189-49C2-91AA-5E4866C7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104A-96A4-4E8E-A3D3-F9FDA7AE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49C3-0C0E-4306-BE7B-F222207A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7CAF-B449-42CC-A472-029F1A45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6944-F5CC-407C-8826-0DB4C66BE80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C8F3-94CD-48CB-8E0B-E4B2AC7E67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228600"/>
            <a:ext cx="8610480" cy="581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ДИВИТЕЛЬНЫЕ РАСТЕНИЯ МИ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Картинка 11 из 64000"/>
          <p:cNvPicPr/>
          <p:nvPr/>
        </p:nvPicPr>
        <p:blipFill>
          <a:blip r:embed="rId1"/>
          <a:stretch/>
        </p:blipFill>
        <p:spPr>
          <a:xfrm>
            <a:off x="609480" y="1143000"/>
            <a:ext cx="3992760" cy="533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9" name="" descr="Картинка 13 из 64000"/>
          <p:cNvPicPr/>
          <p:nvPr/>
        </p:nvPicPr>
        <p:blipFill>
          <a:blip r:embed="rId2"/>
          <a:stretch/>
        </p:blipFill>
        <p:spPr>
          <a:xfrm>
            <a:off x="4927680" y="1143000"/>
            <a:ext cx="3546360" cy="533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6019560" cy="4514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457200" y="0"/>
            <a:ext cx="8686800" cy="2095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Ива аркт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6 место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Ива арктическая — самое северное дерево (кустарник) в мире, его ветки могут достигать 5 метров в длину, но они никогда не поднимаются выше, чем на 10 см. от земли. Таким образом ива защищается от ледяного ветра и растет под снежным покрывалом в течение всей зим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629400" cy="460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304920" y="0"/>
            <a:ext cx="8610480" cy="182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Эдельвей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5 место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Самое романтическое растение – Эдельвейс. На самом деле речь идет не об одном цветке, а группе нескольких крошечных цветочков, собранных вместе. Эдельвейсы очень хорошо защищены от холода, могут произрастать не только на скалах, но и в долин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5035680" cy="6324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5486400" y="228600"/>
            <a:ext cx="3505320" cy="5913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емейство непентов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 место: Самое крупное хищное растение, способное переваривать самую крупную добычу относится к семейству непентовых. Лягушки, птицы и даже крысы попадаются в его ловушки и перевариваются с помощью ферментов. Растет в тропических лесах Азии, на о. Борнео и Индонез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686480" cy="6248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5105520" y="380880"/>
            <a:ext cx="3733560" cy="5913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морфофалл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3 место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амое вонючее в мире растение – аморфофаллус. Он растет в тропических лесах и пахнет гниющей рыбой. Весь остров Суматра буквально пропах этим запах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333760" cy="4440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304920" y="228600"/>
            <a:ext cx="8610480" cy="182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Новозеландское крапивное дере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 место: Самое опасное жалящее растение – Новозеландское крапивное дерево. Оно может убить собаку и даже лошадь, впрыскивая им под шкуру смесь сильных ядов. Тонкие жгучие волоски на листьях содержат гистамин и муравьиную кислот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486400" cy="411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0" y="0"/>
            <a:ext cx="8686800" cy="2095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рхиде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1 место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Орхидеи. Семейство этих растений – одно из самых многочисленных в мире. Оно насчитывает более 25 тысяч видов, большинство из которых растет на деревьях, но, в отличие от растений-паразитов, использует их только как опору. Это растение на удивление неприхотливо, а при цветении не вызывает аллергии.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Картинка 11 из 2966"/>
          <p:cNvPicPr/>
          <p:nvPr/>
        </p:nvPicPr>
        <p:blipFill>
          <a:blip r:embed="rId1"/>
          <a:stretch/>
        </p:blipFill>
        <p:spPr>
          <a:xfrm>
            <a:off x="533520" y="1447920"/>
            <a:ext cx="4065480" cy="4900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1" name="" descr="Картинка 15 из 2966"/>
          <p:cNvPicPr/>
          <p:nvPr/>
        </p:nvPicPr>
        <p:blipFill>
          <a:blip r:embed="rId2"/>
          <a:stretch/>
        </p:blipFill>
        <p:spPr>
          <a:xfrm>
            <a:off x="5029200" y="1447920"/>
            <a:ext cx="3714840" cy="4952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533520" y="228600"/>
            <a:ext cx="8153280" cy="581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ОСНА ОБЫКНОВЕН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Картинка 4 из 1225"/>
          <p:cNvPicPr/>
          <p:nvPr/>
        </p:nvPicPr>
        <p:blipFill>
          <a:blip r:embed="rId1"/>
          <a:stretch/>
        </p:blipFill>
        <p:spPr>
          <a:xfrm>
            <a:off x="146160" y="1447920"/>
            <a:ext cx="3346200" cy="4924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БАНА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Картинка 11 из 64000"/>
          <p:cNvPicPr/>
          <p:nvPr/>
        </p:nvPicPr>
        <p:blipFill>
          <a:blip r:embed="rId2"/>
          <a:stretch/>
        </p:blipFill>
        <p:spPr>
          <a:xfrm>
            <a:off x="3733920" y="1455840"/>
            <a:ext cx="5143320" cy="4978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3962520" y="457200"/>
            <a:ext cx="4952880" cy="581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БАМБ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Картинка 1 из 32"/>
          <p:cNvPicPr/>
          <p:nvPr/>
        </p:nvPicPr>
        <p:blipFill>
          <a:blip r:embed="rId1"/>
          <a:stretch/>
        </p:blipFill>
        <p:spPr>
          <a:xfrm>
            <a:off x="380880" y="914400"/>
            <a:ext cx="3886200" cy="5181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457200" y="228600"/>
            <a:ext cx="4191120" cy="581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ЕКВОЙ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Картинка 2 из 32"/>
          <p:cNvPicPr/>
          <p:nvPr/>
        </p:nvPicPr>
        <p:blipFill>
          <a:blip r:embed="rId2"/>
          <a:stretch/>
        </p:blipFill>
        <p:spPr>
          <a:xfrm>
            <a:off x="4800600" y="914400"/>
            <a:ext cx="3943440" cy="5257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4876920" y="228600"/>
            <a:ext cx="4038480" cy="581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ЭВКАЛИП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40080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5 – 150 М В ВЫСОТУ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55 М В ВЫСО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Картинка 20 из 2399"/>
          <p:cNvPicPr/>
          <p:nvPr/>
        </p:nvPicPr>
        <p:blipFill>
          <a:blip r:embed="rId1"/>
          <a:stretch/>
        </p:blipFill>
        <p:spPr>
          <a:xfrm>
            <a:off x="2438280" y="1066680"/>
            <a:ext cx="4286520" cy="5372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вященное дерево майя - СЕЙ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533520"/>
            <a:ext cx="746748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ДИВИТЕЛЬНЫЕ РАСТЕНИЯ МИ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5791320" cy="4343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6553080" y="1600200"/>
            <a:ext cx="23623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10 место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: Самое аскетичное растение. Вельвичия — растет на юге Африки, в пустыне Намибии. Листья этого растения закручиваются тюрбаном вокруг себя самих. Так как в Намибии почти никогда не идут дожди, вельвичия использует свои листья для поглощения влаги... из туманов, прилетающих с Атлантики, а затем капля по капле передает ее корня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371600"/>
            <a:ext cx="5867640" cy="581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ельвич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715000" cy="3810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1981080" y="2286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Лю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914400"/>
            <a:ext cx="807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9 место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Лютики. По мнению народа, эта трава обладает суровым характером – отсюда и название. Этот цветок - самый высокогорный Европы - встречается на высоте до 4 300 метров над уровнем моря. Лютики Ranunculus lobatus находили на высоте до 6 400 метров над уровнем мор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91440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6324480" cy="4205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609480" y="228600"/>
            <a:ext cx="8153640" cy="182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инк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8 место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амое древнее ныне растущее дерево – это гинкго, произрастающий в китайской провинции Чжэцзян. Этот вид возник еще в юрский период, около 160 млн лет назад. В Японии гинкго называется «Серебряным абрикосом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3880" y="2000160"/>
            <a:ext cx="5867640" cy="4400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228600" y="0"/>
            <a:ext cx="8686800" cy="182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актус сагуа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7 мест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Самый большой кактус в мире, сагуаро, растет в Мексике и штате Аризона. Он легко достигает высоты в 15 метров, а весит от 6 до 10 тонн. В цветке сагуаро- 3500 тычинок, которые настолько большие, что мелкие птица вьют иногда там гнез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 Александровна</cp:lastModifiedBy>
  <dcterms:modified xsi:type="dcterms:W3CDTF">2010-12-26T14:20:44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