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30D-A051-4EA5-A18F-02F8125C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1C9-B47F-4CC6-A1DD-BE336354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85D-EF2D-48BA-B207-DA2CF65A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F12-29EC-492B-8D62-F125851D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D993-A4DE-40E6-8F9C-27666B2B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40D-3B2C-4936-80B4-D541A4DB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1CAD-1D7C-4659-8F05-BB7A7E5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C35-8802-49C6-97A5-07B7536E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1BFF-9F70-4E95-AA12-2DD2936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109B-DD74-4655-A0EB-61509155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463-04AD-4278-900E-9D0F309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A17-8E32-4C92-A17E-69B0A07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292-4210-4333-A507-837F2BC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6C6-FBD4-4398-B3BF-0723284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171-F08F-4252-B3C6-49DDAAF9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0281-F9D9-4E37-B9B0-6F0D8F9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7754-3AA2-49BD-ABF7-D78E3335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7B3-1C3E-4E8D-A3FC-EF1611E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57C-E066-4AAF-B9A5-4A6E1F97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97B-BD66-45FB-B734-AEC3728E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079-12A1-4B9B-9440-C8A8BA5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D94-E644-416E-ADB4-E060255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459-31E2-4322-A563-7F5D145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4E8-1604-4D73-BF3B-74118F2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B8C7-4F7E-4EC4-A9BD-9A5B403F9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EBC-8296-4738-9EC2-A128B7EAF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57.radikal.ru/i158/1006/bb/c624c379948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e-kirov.ru/500/51a799a20afa894a1ffb9979c2273c93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todist.edu54.ru/sites/default/files/images/2010/04/e687080201fb7e3fcdbd688b2ff23f48b5a9a319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0.liveinternet.ru/images/attach/c/1/58/225/58225641_1272185207_Klukvaweb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41.radikal.ru/i091/0905/57/cbcc9e4aca22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imbir-flora.narod.ru/pic/kostjanika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content.foto.mail.ru/mail/ludmillapeters67/1203/i-1257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otvetin.ru/uploads/posts/2009-10/1256914243_brusnika.jpg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fotka.by/img--i-10740-w-640.jpg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angelinos.narod.ru/0_3fc5_d7e3b9d1_l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kirushkino-rb.edusite.ru/DswMedia/volch-yayagoda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ЯГОДНАЯ ПОЛЯ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066680"/>
            <a:ext cx="4876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гадайте загад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 припёке у пень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ного тон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ебель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ждый тонк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ебелё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ержит алый огонё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Картинка 4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168800" cy="472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533520"/>
            <a:ext cx="4267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олубень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латьиц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устар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больш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 соком свои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аж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пробуй-ка,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Картинка 2 из 76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57200"/>
            <a:ext cx="3865320" cy="5791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7621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на колючая, как ёж, - В руки сразу не возьм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72428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 болоте вырос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расная и кисл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Картинка 5 из 37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838080"/>
            <a:ext cx="4172040" cy="328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7" name="" descr="Картинка 9 из 39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276720"/>
            <a:ext cx="4138560" cy="276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Картинка 3 из 1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4191120" cy="314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" descr="Картинка 1 из 3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81760" y="4267080"/>
            <a:ext cx="3909960" cy="249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" descr="Картинка 1 из 1072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2514600"/>
            <a:ext cx="3657600" cy="293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" descr="Картинка 3 из 393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152280"/>
            <a:ext cx="4138560" cy="276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12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733920"/>
            <a:ext cx="3986280" cy="2990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685800" y="304920"/>
            <a:ext cx="26668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04920"/>
            <a:ext cx="2590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РУ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809880"/>
            <a:ext cx="27432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ИМОЛ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2895480"/>
            <a:ext cx="26672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ОЛУБ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6324480"/>
            <a:ext cx="2590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СТЯ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Картинка 20 из 196"/>
          <p:cNvPicPr/>
          <p:nvPr/>
        </p:nvPicPr>
        <p:blipFill>
          <a:blip r:embed="rId1"/>
          <a:stretch/>
        </p:blipFill>
        <p:spPr>
          <a:xfrm>
            <a:off x="3429000" y="1447920"/>
            <a:ext cx="2629080" cy="35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15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ЧЕМУ ЭТИ РАСТЕНИЯ ОТМЕЧЕНЫ ОСОБЫМ ЗНАКОМ? ЧТО ОН ОЗНАЧ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Картинка 4 из 10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447920"/>
            <a:ext cx="2629080" cy="35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1" name="" descr="Картинка 3 из 56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81080" y="4191120"/>
            <a:ext cx="3834000" cy="248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" descr="Картинка 2 из 527"/>
          <p:cNvPicPr/>
          <p:nvPr/>
        </p:nvPicPr>
        <p:blipFill>
          <a:blip r:embed="rId6"/>
          <a:stretch/>
        </p:blipFill>
        <p:spPr>
          <a:xfrm>
            <a:off x="6400800" y="3124080"/>
            <a:ext cx="247968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2514600" y="3429000"/>
            <a:ext cx="144792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5812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219320"/>
            <a:ext cx="373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ом и осенью на травянистых растениях, кустарниках и кустарничках созревают ягоды. Это плоды с сочной мякотью и тонкой кожицей, внутри которых находятся мелкие семена. Собирать ягоды надо бережно, сохраняя веточки и листья растений. Ягоды волчьего лыка, вороньего глаза, ландыша, купены многоцветковой ядовиты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Картинка 28 из 6376"/>
          <p:cNvPicPr/>
          <p:nvPr/>
        </p:nvPicPr>
        <p:blipFill>
          <a:blip r:embed="rId1"/>
          <a:stretch/>
        </p:blipFill>
        <p:spPr>
          <a:xfrm>
            <a:off x="4038480" y="1447920"/>
            <a:ext cx="4876920" cy="487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номарева</cp:lastModifiedBy>
  <dcterms:modified xsi:type="dcterms:W3CDTF">2010-12-17T11:23:1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