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77926-2AB2-451E-8245-09D15CE3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682B8-B9A9-4820-8BAF-56714BF7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8F229-608E-42C3-80DA-F60B6118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89661-61CC-498E-AF05-25B205A3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1308-5E56-4799-A17D-7B06CD10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3957-0E07-4D22-93DD-56865C5E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DC2A-AE2A-4DD6-9D83-9F2F46B5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7364-9014-4379-8609-384C6840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AB38-5FB4-4848-B591-C44FB868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8D0B-A5EC-4F13-B2A1-2D328072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6832-341A-4633-9A4B-D41D15DB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045EE-5E4B-4872-B869-5FCC5527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6382-EE19-474E-8C5C-17EBB8AC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9216-78DB-4056-93F5-9F91215F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9E32-66DC-45B5-8036-F7B8CB1A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2D8E-77BD-4330-8A07-2A450BC3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3068-FF48-4397-8EF8-6538B88D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2CF2A-A78F-4A9B-8386-423931E2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6A4D5-7565-4FB6-9BB0-E3B72053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718E8-3DC6-4C54-8843-E8A38A5A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A5448-CA7B-4BF1-A856-C7C33826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CED2E-E3F1-4C2E-8B12-3332825C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F2CA5-E525-400A-8B7B-4728A323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238DE-E1C2-45B4-91AB-5145706E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27EC-64EA-4FB0-A355-5DCEADFC53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B8D4-A276-43FA-BE03-320EF5506D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Метки. природа. животные. подводный мир. "/>
          <p:cNvPicPr/>
          <p:nvPr/>
        </p:nvPicPr>
        <p:blipFill>
          <a:blip r:embed="rId1"/>
          <a:stretch/>
        </p:blipFill>
        <p:spPr>
          <a:xfrm>
            <a:off x="0" y="0"/>
            <a:ext cx="9448920" cy="6851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548640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В ПОДВОДНОМ МИРЕ…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УДИВИТЕЛЬНЫЕ РЫБ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3" name="" descr="Странная голова акулы-молот. "/>
          <p:cNvPicPr/>
          <p:nvPr/>
        </p:nvPicPr>
        <p:blipFill>
          <a:blip r:embed="rId1"/>
          <a:stretch/>
        </p:blipFill>
        <p:spPr>
          <a:xfrm>
            <a:off x="304920" y="1447920"/>
            <a:ext cx="2971800" cy="1977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304920" y="35053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АКУЛА-МОЛ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Морской конёк.  33 вида морских коньков.  "/>
          <p:cNvPicPr/>
          <p:nvPr/>
        </p:nvPicPr>
        <p:blipFill>
          <a:blip r:embed="rId2"/>
          <a:stretch/>
        </p:blipFill>
        <p:spPr>
          <a:xfrm>
            <a:off x="2971800" y="2438280"/>
            <a:ext cx="2895480" cy="2171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6" name=""/>
          <p:cNvSpPr/>
          <p:nvPr/>
        </p:nvSpPr>
        <p:spPr>
          <a:xfrm>
            <a:off x="2971800" y="4648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МОРСКОЙ КОНЁ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Рыба-игла. "/>
          <p:cNvPicPr/>
          <p:nvPr/>
        </p:nvPicPr>
        <p:blipFill>
          <a:blip r:embed="rId3"/>
          <a:stretch/>
        </p:blipFill>
        <p:spPr>
          <a:xfrm>
            <a:off x="5791320" y="4572000"/>
            <a:ext cx="3162240" cy="21081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962520" y="6248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РЫБА-ИГ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КАКИЕ ЖИВОТНЫЕ ИЗОБРАЖЕНЫ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" descr="ФОРМА ВХОДА.  Какую рыбу любите ловить? "/>
          <p:cNvPicPr/>
          <p:nvPr/>
        </p:nvPicPr>
        <p:blipFill>
          <a:blip r:embed="rId1"/>
          <a:stretch/>
        </p:blipFill>
        <p:spPr>
          <a:xfrm>
            <a:off x="533520" y="1600200"/>
            <a:ext cx="2743200" cy="148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33520" y="342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ОКУ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&quot;Это рыба&quot;не писать.  Умники хреновы.  "/>
          <p:cNvPicPr/>
          <p:nvPr/>
        </p:nvPicPr>
        <p:blipFill>
          <a:blip r:embed="rId2"/>
          <a:stretch/>
        </p:blipFill>
        <p:spPr>
          <a:xfrm>
            <a:off x="3809880" y="1600200"/>
            <a:ext cx="2133720" cy="1522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3809880" y="3352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МЕЧЕНОС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Рыба.  Рыбак.  Рыбка.  Садик.  Грибок.  "/>
          <p:cNvPicPr/>
          <p:nvPr/>
        </p:nvPicPr>
        <p:blipFill>
          <a:blip r:embed="rId3"/>
          <a:stretch/>
        </p:blipFill>
        <p:spPr>
          <a:xfrm>
            <a:off x="6477120" y="1600200"/>
            <a:ext cx="2133360" cy="1552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477120" y="33526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ВУАЛЕХВО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В уловах преобладает треска весом от. "/>
          <p:cNvPicPr/>
          <p:nvPr/>
        </p:nvPicPr>
        <p:blipFill>
          <a:blip r:embed="rId4"/>
          <a:stretch/>
        </p:blipFill>
        <p:spPr>
          <a:xfrm>
            <a:off x="457200" y="4114800"/>
            <a:ext cx="2962440" cy="1409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533520" y="58672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ТРЕС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Ловля щуки весной на спиннинг. "/>
          <p:cNvPicPr/>
          <p:nvPr/>
        </p:nvPicPr>
        <p:blipFill>
          <a:blip r:embed="rId5"/>
          <a:stretch/>
        </p:blipFill>
        <p:spPr>
          <a:xfrm>
            <a:off x="3657600" y="4114800"/>
            <a:ext cx="2514600" cy="1457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3809880" y="58672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ЩУ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Большинство скатов ведёт донный образ..."/>
          <p:cNvPicPr/>
          <p:nvPr/>
        </p:nvPicPr>
        <p:blipFill>
          <a:blip r:embed="rId6"/>
          <a:stretch/>
        </p:blipFill>
        <p:spPr>
          <a:xfrm>
            <a:off x="6477120" y="4114800"/>
            <a:ext cx="2209680" cy="1471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629400" y="5867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СК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МЕСТА ОБИТАНИЯ РЫБ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676520"/>
            <a:ext cx="24382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ПРЕСНЫЕ ВОДОЁ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676520"/>
            <a:ext cx="24382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СОЛЁНЫЕ ВОДОЁ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1676520"/>
            <a:ext cx="24386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ДОМА АКВАРИУ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2743200"/>
            <a:ext cx="12193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РЕ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2743200"/>
            <a:ext cx="11430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ОЗЁ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2743200"/>
            <a:ext cx="12189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МОР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2743200"/>
            <a:ext cx="12952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ОКЕА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Мясо небольших рыб вкусное; у крупных сомов..."/>
          <p:cNvPicPr/>
          <p:nvPr/>
        </p:nvPicPr>
        <p:blipFill>
          <a:blip r:embed="rId1"/>
          <a:stretch/>
        </p:blipFill>
        <p:spPr>
          <a:xfrm>
            <a:off x="457200" y="3200400"/>
            <a:ext cx="2438280" cy="131436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457200" y="3886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Garamond"/>
              </a:rPr>
              <a:t>С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Еще. ерша. о жизни, повадках и способах..."/>
          <p:cNvPicPr/>
          <p:nvPr/>
        </p:nvPicPr>
        <p:blipFill>
          <a:blip r:embed="rId2"/>
          <a:stretch/>
        </p:blipFill>
        <p:spPr>
          <a:xfrm>
            <a:off x="457200" y="4267080"/>
            <a:ext cx="2438280" cy="13716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457200" y="5257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Garamond"/>
              </a:rPr>
              <a:t>ЁР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Взрослые особи осетра имеют большие..."/>
          <p:cNvPicPr/>
          <p:nvPr/>
        </p:nvPicPr>
        <p:blipFill>
          <a:blip r:embed="rId3"/>
          <a:stretch/>
        </p:blipFill>
        <p:spPr>
          <a:xfrm>
            <a:off x="457200" y="5562720"/>
            <a:ext cx="2438280" cy="11779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457200" y="5715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Garamond"/>
              </a:rPr>
              <a:t>ОСЁТ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В акулах все продумано до совершенства.  "/>
          <p:cNvPicPr/>
          <p:nvPr/>
        </p:nvPicPr>
        <p:blipFill>
          <a:blip r:embed="rId4"/>
          <a:stretch/>
        </p:blipFill>
        <p:spPr>
          <a:xfrm>
            <a:off x="3657600" y="3200400"/>
            <a:ext cx="1828800" cy="10238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3581280" y="32767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Garamond"/>
              </a:rPr>
              <a:t>АКУ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Гигантская рыба-луч Манта вернулась в..."/>
          <p:cNvPicPr/>
          <p:nvPr/>
        </p:nvPicPr>
        <p:blipFill>
          <a:blip r:embed="rId5"/>
          <a:stretch/>
        </p:blipFill>
        <p:spPr>
          <a:xfrm>
            <a:off x="3657600" y="4191120"/>
            <a:ext cx="1523880" cy="228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3657600" y="6477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РЫБА-ЛУ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Рыба-пар. живет в Индийском океане и в..."/>
          <p:cNvPicPr/>
          <p:nvPr/>
        </p:nvPicPr>
        <p:blipFill>
          <a:blip r:embed="rId6"/>
          <a:stretch/>
        </p:blipFill>
        <p:spPr>
          <a:xfrm>
            <a:off x="5181480" y="4191120"/>
            <a:ext cx="1959120" cy="228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5181480" y="64771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РЫБА-П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Самые замечательные аквариумные рыбки (36 фото).  "/>
          <p:cNvPicPr/>
          <p:nvPr/>
        </p:nvPicPr>
        <p:blipFill>
          <a:blip r:embed="rId7"/>
          <a:stretch/>
        </p:blipFill>
        <p:spPr>
          <a:xfrm>
            <a:off x="6095880" y="2362320"/>
            <a:ext cx="1676520" cy="1047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6019920" y="31240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ГУПП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Фотография аквариумной рыбки Петушок (Betta. "/>
          <p:cNvPicPr/>
          <p:nvPr/>
        </p:nvPicPr>
        <p:blipFill>
          <a:blip r:embed="rId8"/>
          <a:stretch/>
        </p:blipFill>
        <p:spPr>
          <a:xfrm>
            <a:off x="7391520" y="3200400"/>
            <a:ext cx="1638360" cy="136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7391520" y="4572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ПЕТУШ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Аквариумные рыбки.  Аквариумная рыбка Барбус..."/>
          <p:cNvPicPr/>
          <p:nvPr/>
        </p:nvPicPr>
        <p:blipFill>
          <a:blip r:embed="rId9"/>
          <a:stretch/>
        </p:blipFill>
        <p:spPr>
          <a:xfrm>
            <a:off x="7391520" y="4952880"/>
            <a:ext cx="1600200" cy="121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7391520" y="6324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БАРБУ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11430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1430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11430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ТРОЕНИЕ РЫБ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" descr="Из всех пресноводных рыб карась, пожалуй..."/>
          <p:cNvPicPr/>
          <p:nvPr/>
        </p:nvPicPr>
        <p:blipFill>
          <a:blip r:embed="rId1"/>
          <a:stretch/>
        </p:blipFill>
        <p:spPr>
          <a:xfrm>
            <a:off x="685800" y="2209680"/>
            <a:ext cx="5124600" cy="3260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85800" y="2590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Garamond"/>
              </a:rPr>
              <a:t>ГЛА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5181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Garamond"/>
              </a:rPr>
              <a:t>ПЛАВ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3733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ХВО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6019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ЖАБЕРНАЯ КРЫ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2438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ЧЕШУ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142640" y="2895480"/>
            <a:ext cx="152280" cy="9144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1752120" y="4191120"/>
            <a:ext cx="1143000" cy="18288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047760" y="5105160"/>
            <a:ext cx="609480" cy="2286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2514240" y="4267080"/>
            <a:ext cx="1143000" cy="106704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657600" y="4724280"/>
            <a:ext cx="228600" cy="60984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257800" y="3962520"/>
            <a:ext cx="190512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504960" y="2666880"/>
            <a:ext cx="3352680" cy="83844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УЩЕСТВЕННЫЕ ПРИЗНАК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троение тел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бтекаемая форма тел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ело состоит из головы, туловища и хвоста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нечности – плавни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ело покрыто чешуё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ышат жабра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меют плавательный пузыр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ГРУППЫ РЫБ ПО ПИТАНИЮ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209680"/>
            <a:ext cx="33526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РАСТИТЕЛЬНОЯД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2209680"/>
            <a:ext cx="35812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ХИЩ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13716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13716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Белый амур - растительноядная рыба.  "/>
          <p:cNvPicPr/>
          <p:nvPr/>
        </p:nvPicPr>
        <p:blipFill>
          <a:blip r:embed="rId1"/>
          <a:stretch/>
        </p:blipFill>
        <p:spPr>
          <a:xfrm>
            <a:off x="533520" y="2666880"/>
            <a:ext cx="1904760" cy="1271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457200" y="3886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БЕЛЫЙ АМУ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...это растительноядные рыбы.Мотыль конечно она..."/>
          <p:cNvPicPr/>
          <p:nvPr/>
        </p:nvPicPr>
        <p:blipFill>
          <a:blip r:embed="rId2"/>
          <a:stretch/>
        </p:blipFill>
        <p:spPr>
          <a:xfrm>
            <a:off x="2514600" y="2666880"/>
            <a:ext cx="1676520" cy="1303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2514600" y="39625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КРАСНАЯ ШАП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Растительноядные рыбы. "/>
          <p:cNvPicPr/>
          <p:nvPr/>
        </p:nvPicPr>
        <p:blipFill>
          <a:blip r:embed="rId3"/>
          <a:stretch/>
        </p:blipFill>
        <p:spPr>
          <a:xfrm>
            <a:off x="609480" y="4572000"/>
            <a:ext cx="3448080" cy="1612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743200" y="1676520"/>
            <a:ext cx="35812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ВСЕЯД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13716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Это хищные и опасные рыбы, что живут. "/>
          <p:cNvPicPr/>
          <p:nvPr/>
        </p:nvPicPr>
        <p:blipFill>
          <a:blip r:embed="rId4"/>
          <a:stretch/>
        </p:blipFill>
        <p:spPr>
          <a:xfrm>
            <a:off x="4724280" y="2666880"/>
            <a:ext cx="1981440" cy="1486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800600" y="4114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ПИРАН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Хищная, быстрая, прожорливая рыба.  "/>
          <p:cNvPicPr/>
          <p:nvPr/>
        </p:nvPicPr>
        <p:blipFill>
          <a:blip r:embed="rId5"/>
          <a:stretch/>
        </p:blipFill>
        <p:spPr>
          <a:xfrm>
            <a:off x="6629400" y="2666880"/>
            <a:ext cx="2362320" cy="1495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7010280" y="41911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ОКУ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АКУЛЫ (Selachii), отряд или, по другой..."/>
          <p:cNvPicPr/>
          <p:nvPr/>
        </p:nvPicPr>
        <p:blipFill>
          <a:blip r:embed="rId6"/>
          <a:stretch/>
        </p:blipFill>
        <p:spPr>
          <a:xfrm>
            <a:off x="5257800" y="4572000"/>
            <a:ext cx="3352680" cy="217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УЗНАЙ РЫБУ ПО ОПИСАНИЮ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8" name="" descr="Летучая рыба. "/>
          <p:cNvPicPr/>
          <p:nvPr/>
        </p:nvPicPr>
        <p:blipFill>
          <a:blip r:embed="rId1"/>
          <a:stretch/>
        </p:blipFill>
        <p:spPr>
          <a:xfrm>
            <a:off x="304920" y="1219320"/>
            <a:ext cx="3124080" cy="2344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9" name="" descr="Летающие рыбы существуют Смотрим и удивляемся...  "/>
          <p:cNvPicPr/>
          <p:nvPr/>
        </p:nvPicPr>
        <p:blipFill>
          <a:blip r:embed="rId2"/>
          <a:stretch/>
        </p:blipFill>
        <p:spPr>
          <a:xfrm>
            <a:off x="2895480" y="3048120"/>
            <a:ext cx="3048120" cy="2297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0" name="" descr="Летучие рыбы могут парить над поверхностью воды. "/>
          <p:cNvPicPr/>
          <p:nvPr/>
        </p:nvPicPr>
        <p:blipFill>
          <a:blip r:embed="rId3"/>
          <a:stretch/>
        </p:blipFill>
        <p:spPr>
          <a:xfrm>
            <a:off x="5791320" y="3917880"/>
            <a:ext cx="3009960" cy="2695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3809880" y="12952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НЕ ПТИЦА, А ЛЕТАЕТ. ВЫПРЫГНЕТ ИЗ ВОДЫ, РАСПРАВИТ ПЛАВНИКИ  - И ЛЕТИТ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УЗНАЙ РЫБУ ПО ОПИСАНИЮ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3" name="" descr="Камбала, навага и терпуг ждут рыбаков.  "/>
          <p:cNvPicPr/>
          <p:nvPr/>
        </p:nvPicPr>
        <p:blipFill>
          <a:blip r:embed="rId1"/>
          <a:stretch/>
        </p:blipFill>
        <p:spPr>
          <a:xfrm>
            <a:off x="609480" y="1143000"/>
            <a:ext cx="2895840" cy="21938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Как вы относитесь к камбале.  "/>
          <p:cNvPicPr/>
          <p:nvPr/>
        </p:nvPicPr>
        <p:blipFill>
          <a:blip r:embed="rId2"/>
          <a:stretch/>
        </p:blipFill>
        <p:spPr>
          <a:xfrm>
            <a:off x="5410080" y="4267080"/>
            <a:ext cx="3124440" cy="234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5" name="" descr="18 С. КАМБАЛА.  Упаковка. гофрокороб.  "/>
          <p:cNvPicPr/>
          <p:nvPr/>
        </p:nvPicPr>
        <p:blipFill>
          <a:blip r:embed="rId3"/>
          <a:stretch/>
        </p:blipFill>
        <p:spPr>
          <a:xfrm>
            <a:off x="2971800" y="3200400"/>
            <a:ext cx="2666880" cy="199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3962520" y="144792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ЛЕЖИТ НА ПЕСКЕ – ПРИМЕТ ЦВЕТ ПЕСКА. НА КАМЕНИСТОМ ДНЕ ПРИКИНЕТСЯ КАМН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УЗНАЙ РЫБУ ПО ОПИСАНИЮ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8" name="" descr="В Канаде поймали осетра длиной почти три..."/>
          <p:cNvPicPr/>
          <p:nvPr/>
        </p:nvPicPr>
        <p:blipFill>
          <a:blip r:embed="rId1"/>
          <a:stretch/>
        </p:blipFill>
        <p:spPr>
          <a:xfrm>
            <a:off x="457200" y="1295280"/>
            <a:ext cx="3048120" cy="2301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Новость Newsland: Белого осетра не..."/>
          <p:cNvPicPr/>
          <p:nvPr/>
        </p:nvPicPr>
        <p:blipFill>
          <a:blip r:embed="rId2"/>
          <a:stretch/>
        </p:blipFill>
        <p:spPr>
          <a:xfrm>
            <a:off x="5334120" y="3962520"/>
            <a:ext cx="3504960" cy="262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0" name="" descr="За незаконную ловлю осетра на Оби..."/>
          <p:cNvPicPr/>
          <p:nvPr/>
        </p:nvPicPr>
        <p:blipFill>
          <a:blip r:embed="rId3"/>
          <a:stretch/>
        </p:blipFill>
        <p:spPr>
          <a:xfrm>
            <a:off x="2514600" y="3124080"/>
            <a:ext cx="3657600" cy="2001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4191120" y="137160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У ЭТОЙ РЫБЫ ИКРА ЧЁРНАЯ. ЭТО ЦЕННЫЙ ДИЕТИЧЕСКИЙ ПРОДУКТ ПИТ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 Александровна</cp:lastModifiedBy>
  <dcterms:modified xsi:type="dcterms:W3CDTF">2011-04-10T05:17:5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